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1EC7-913F-4781-94F6-C7BFD6B6A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F642-ED23-404A-A744-87E96A64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682E-0688-4B8D-9911-BCF63EA8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8F39-7906-494B-B089-16FE9FA32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2E9-C0D1-4158-8C54-17D58C77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F17A8-BDD9-4473-B0F6-ADA8CB2A5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C30A-9B6B-4974-8681-8647AA277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729E-D8C9-4CC5-B27C-5DD0DE312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5717-0919-472E-BE88-D3850898C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E7FC-4832-45D9-94A2-188D40F27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995B-C29F-42F8-A693-AD1957C4F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6AFA-EF56-49AE-935F-22193DE41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756B-D131-4E1F-B3D2-98A12D3E9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Virtual Tour of the </a:t>
            </a:r>
            <a:br>
              <a:rPr sz="8800"/>
            </a:br>
            <a:r>
              <a:rPr b="0" lang="en-US" sz="8800" spc="-1" strike="noStrike">
                <a:solidFill>
                  <a:srgbClr val="000000"/>
                </a:solidFill>
                <a:latin typeface="Arial"/>
              </a:rPr>
              <a:t>Grand Canyo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380520"/>
            <a:ext cx="807732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ok at some rock sampl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what you see and feel about each rock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rock is identified by a numb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kind of inferences can you make about these rocks based on your observa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nferences can you make about the Grand Canyon based on the pictures, the movie, and the rocks you have se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do you think we can learn about the Earth’s History from studying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back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 I learned 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inferences I can make about the Grand Canyon a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_________________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_________________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front of your index car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---------------------------------------------------------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ord would you choose to describe the Grand Cany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ant to know more about ___________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0000"/>
                </a:solidFill>
                <a:latin typeface="Arial"/>
              </a:rPr>
              <a:t>Grand Canyon on the United States Map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533520" y="0"/>
          <a:ext cx="8381880" cy="6885000"/>
        </p:xfrm>
        <a:graphic>
          <a:graphicData uri="http://schemas.openxmlformats.org/drawingml/2006/table">
            <a:tbl>
              <a:tblPr/>
              <a:tblGrid>
                <a:gridCol w="3952800"/>
                <a:gridCol w="44290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77 m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Wid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600 yards min / 18 miles m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 m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Leng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,450 miles (from Colorado to Californi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Average Wid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00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Depth of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Up to 85 fe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emperature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-16 degrees Celsi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(46-60 degrees Fahrenheit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Speed of Wa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-4 mph / 8-10 mp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rd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87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Mammals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8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sh in Grand Cany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26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Reptiles / Amphibi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8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iotic Life Z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Endangered Spec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Bald eagle, Falcon, Pincushion cact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uman Artifa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3,000-4,000 years o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First European Expedi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5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Grand Canyon Park Reser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1893 by President Benjamin Harris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Hi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day from top to botto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ravel on the Colorado Ri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One week  by motor bo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ntigoni Med"/>
                          <a:ea typeface="Times New Roman"/>
                        </a:rPr>
                        <a:t>Three weeks by raf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4335480" cy="5715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952880" y="1447920"/>
            <a:ext cx="4191120" cy="21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ohn Wesley Pow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well Expedition of 19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Traveled down the Colorado River to study the Grand Cany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8088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many states did Powell travel through while traveling the Green River and Colorado Riv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long did it take Powell to complete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are some observations about the Grand Canyon that Powell made during his expedi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rite down two or three questions you might ask a tour guide if you were really standing at Pima Point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Earth History Readers to pages 4-7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Write down one thing you observe about each pi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observation is what you se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An inference is what you think or predi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 Shuttle View = pag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North Rim = pag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of Vasey’s Paradise = pag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ew along Bright Angel Trail = pag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7T14:56:41Z</dcterms:created>
  <dc:creator>Gaston</dc:creator>
  <dc:description/>
  <dc:language>en-US</dc:language>
  <cp:lastModifiedBy>Gaston</cp:lastModifiedBy>
  <dcterms:modified xsi:type="dcterms:W3CDTF">2007-02-07T17:07:24Z</dcterms:modified>
  <cp:revision>2</cp:revision>
  <dc:subject/>
  <dc:title>Virtual Tour of the  Grand Canyon</dc:title>
</cp:coreProperties>
</file>