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FD4-62B8-4723-94E6-309C9330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E4D-FD11-4DC0-99A8-3B9A3119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99A-FB97-43D4-87A6-B02ADE5C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2D5-C4CF-4815-8626-22BEC5F4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C62-9E67-4816-957A-84F7D696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FB6-39DF-4382-B9E0-36A47281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432-FD0F-4359-ABFF-84774CFC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A6D-4FBF-4215-A610-72A39B14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9ED-589E-4654-A776-76F5B6C9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F0E-5012-4CC1-BDAA-75A38804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F0B-2A08-48AC-8157-BE7E4D05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80E-568C-4052-85DE-0788339C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3BC6-A8D1-4D9D-8CFD-987FA9F9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Virtual Tour of the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rand Cany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some rock samp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what you see and feel about each roc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ck is identified by a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inferences can you make about these rocks based on your observ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ferences can you make about the Grand Canyon based on the pictures, the movie, and the rocks you have s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we can learn about the Earth’s History from studying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back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 learned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nferences I can make about the Grand Canyon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ront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rd would you choose to describe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know more about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Grand Canyon on the United States Ma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0"/>
          <a:ext cx="8381880" cy="6885000"/>
        </p:xfrm>
        <a:graphic>
          <a:graphicData uri="http://schemas.openxmlformats.org/drawingml/2006/table">
            <a:tbl>
              <a:tblPr/>
              <a:tblGrid>
                <a:gridCol w="3952800"/>
                <a:gridCol w="442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77 m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Wid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600 yards min / 18 miles 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 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,450 miles (from Colorado to Californ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Average Wid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00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Up to 85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emperature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-16 degrees Cels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(46-60 degrees Fahrenhe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Speed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-4 mph / 8-10 m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rd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87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Mammal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sh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6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Reptiles / Amphib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otic Life Z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Endangered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ald eagle, Falcon, Pincushion cac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uman Artif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,000-4,000 years 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rst European Expe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Grand Canyon Park Rese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893 by President Benjamin Harri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i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day from top to bott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ravel on the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week  by motor b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hree weeks by 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3354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1447920"/>
            <a:ext cx="419112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hn Wesley P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ll Expedition of 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raveled down the Colorado River to study the Grand Can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states did Powell travel through while traveling the Green River and Colorado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long did it take Powell to complete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ome observations about the Grand Canyon that Powell made during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rite down two or three questions you might ask a tour guide if you were really standing at Pima Poin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arth History Readers to pages 4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one thing you observe about each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observation is what you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inference is what you think or pred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Shuttle View = pag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North Rim = pa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Vasey’s Paradise = pag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long Bright Angel Trail = pag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6:41Z</dcterms:created>
  <dc:creator>Gaston</dc:creator>
  <dc:description/>
  <dc:language>en-US</dc:language>
  <cp:lastModifiedBy>Gaston</cp:lastModifiedBy>
  <dcterms:modified xsi:type="dcterms:W3CDTF">2007-02-07T17:07:24Z</dcterms:modified>
  <cp:revision>2</cp:revision>
  <dc:subject/>
  <dc:title>Virtual Tour of the  Grand Canyon</dc:title>
</cp:coreProperties>
</file>