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4C82-2294-400B-96BF-32CD4C92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AB41-5CCE-46BA-8101-17C1206AC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62A2-2095-4BDE-B7FB-F31282225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DB0D-20C6-4972-9375-2AFC2FA5C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3F50-EE9B-4EC2-8D47-C5309AAD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5C1C-68B5-40E4-9EE5-DE57D82A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A3256-7694-498F-ACEF-18B3D612A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2FE4-7172-4936-AC5F-53ACEF4F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3C6EA-1F3E-4B9A-8AAE-BB0B7971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9F2D-2BA0-4404-AD41-08FFAABF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4C31-24E1-455C-A52C-9146F4C3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4116-52F5-4535-8AA6-AA71FB62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99789-1C4A-4153-BDB1-C595B2AEA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Virtual Tour of the 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Grand Cany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some rock samp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e down what you see and feel about each roc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ock is identified by a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inferences can you make about these rocks based on your observ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ferences can you make about the Grand Canyon based on the pictures, the movie, and the rocks you have s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we can learn about the Earth’s History from studying the Grand Cany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back of your index car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I learned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inferences I can make about the Grand Canyon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ront of your index car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rd would you choose to describe the Grand Cany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know more about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Grand Canyon on the United States Ma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33520" y="0"/>
          <a:ext cx="8381880" cy="6885000"/>
        </p:xfrm>
        <a:graphic>
          <a:graphicData uri="http://schemas.openxmlformats.org/drawingml/2006/table">
            <a:tbl>
              <a:tblPr/>
              <a:tblGrid>
                <a:gridCol w="3952800"/>
                <a:gridCol w="442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Leng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77 m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Wid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600 yards min / 18 miles 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Dep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 m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Leng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,450 miles (from Colorado to Californ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Average Wid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00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Dep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Up to 85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emperature of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8-16 degrees Cels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(46-60 degrees Fahrenhe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Speed of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3-4 mph / 8-10 m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irds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87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Mammals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88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Fish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6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Reptiles / Amphib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58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iotic Life Z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Endangered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ald eagle, Falcon, Pincushion cac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Human Artif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3,000-4,000 years 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First European Expe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Grand Canyon Park Rese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893 by President Benjamin Harri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Hi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One day from top to bott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ravel on the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One week  by motor b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hree weeks by ra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33548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1447920"/>
            <a:ext cx="419112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hn Wesley Po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ll Expedition of 19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raveled down the Colorado River to study the Grand Can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states did Powell travel through while traveling the Green River and Colorado R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long did it take Powell to complete his expe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ome observations about the Grand Canyon that Powell made during his expe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rite down two or three questions you might ask a tour guide if you were really standing at Pima Poin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Earth History Readers to pages 4-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e down one thing you observe about each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n observation is what you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n inference is what you think or pred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Shuttle View = pag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of North Rim = pag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of Vasey’s Paradise = pag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long Bright Angel Trail = pag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4:56:41Z</dcterms:created>
  <dc:creator>Gaston</dc:creator>
  <dc:description/>
  <dc:language>en-US</dc:language>
  <cp:lastModifiedBy>Gaston</cp:lastModifiedBy>
  <dcterms:modified xsi:type="dcterms:W3CDTF">2007-02-07T17:07:24Z</dcterms:modified>
  <cp:revision>2</cp:revision>
  <dc:subject/>
  <dc:title>Virtual Tour of the  Grand Canyon</dc:title>
</cp:coreProperties>
</file>