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0.png" ContentType="image/png"/>
  <Override PartName="/ppt/media/image18.wmf" ContentType="image/x-wmf"/>
  <Override PartName="/ppt/media/image10.wmf" ContentType="image/x-wmf"/>
  <Override PartName="/ppt/media/image2.png" ContentType="image/png"/>
  <Override PartName="/ppt/media/image25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32.wmf" ContentType="image/x-wmf"/>
  <Override PartName="/ppt/media/image12.wmf" ContentType="image/x-wmf"/>
  <Override PartName="/ppt/media/image31.wmf" ContentType="image/x-wmf"/>
  <Override PartName="/ppt/media/image28.png" ContentType="image/png"/>
  <Override PartName="/ppt/media/image13.wmf" ContentType="image/x-wmf"/>
  <Override PartName="/ppt/media/image30.png" ContentType="image/png"/>
  <Override PartName="/ppt/media/image8.wmf" ContentType="image/x-wmf"/>
  <Override PartName="/ppt/media/image9.wmf" ContentType="image/x-wmf"/>
  <Override PartName="/ppt/media/image33.png" ContentType="image/png"/>
  <Override PartName="/ppt/media/image16.wmf" ContentType="image/x-wmf"/>
  <Override PartName="/ppt/media/image5.wmf" ContentType="image/x-wmf"/>
  <Override PartName="/ppt/media/image4.wmf" ContentType="image/x-wmf"/>
  <Override PartName="/ppt/media/image27.wmf" ContentType="image/x-wmf"/>
  <Override PartName="/ppt/media/image3.wmf" ContentType="image/x-wmf"/>
  <Override PartName="/ppt/media/image26.wmf" ContentType="image/x-wmf"/>
  <Override PartName="/ppt/media/image29.wmf" ContentType="image/x-wmf"/>
  <Override PartName="/ppt/media/image1.png" ContentType="image/png"/>
  <Override PartName="/ppt/media/image24.png" ContentType="image/png"/>
  <Override PartName="/ppt/media/image14.wmf" ContentType="image/x-wmf"/>
  <Override PartName="/ppt/media/image15.wmf" ContentType="image/x-wmf"/>
  <Override PartName="/ppt/media/image17.png" ContentType="image/png"/>
  <Override PartName="/ppt/media/image19.wmf" ContentType="image/x-wmf"/>
  <Override PartName="/ppt/media/image21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90AE2-481A-4274-8E01-29A1AEED7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05724-BF46-48FD-8A86-D7F8E5DE2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8EE65-D9CB-4C82-88E3-DDAF3999D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B897E-A5FA-492D-B36D-5B3690C24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73E2F-1A5F-4800-96FF-712D60389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D6CF2-5FCE-4650-BA17-2969184C9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746C0-3DA0-497C-B08E-788E4D819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F6821-A494-4DD7-B97E-6F9F8D876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5F021-8089-4C5B-A665-131B087C3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0C375-661E-4E5A-8FA4-F09D6412D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066A8-DB21-4AFF-AD87-5834B8949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044F2-D6B7-455E-95A6-07330B407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BF113-7D94-4CD4-B412-2540012A1AEB}" type="slidenum"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" Target=""/><Relationship Id="rId6" Type="http://schemas.openxmlformats.org/officeDocument/2006/relationships/slide" Target="slide34.xml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slide4.xml"/><Relationship Id="rId7" Type="http://schemas.openxmlformats.org/officeDocument/2006/relationships/slide" Target="slide5.xml"/><Relationship Id="rId8" Type="http://schemas.openxmlformats.org/officeDocument/2006/relationships/slide" Target="slide7.xml"/><Relationship Id="rId9" Type="http://schemas.openxmlformats.org/officeDocument/2006/relationships/slide" Target="slide6.xml"/><Relationship Id="rId10" Type="http://schemas.openxmlformats.org/officeDocument/2006/relationships/slide" Target="slide8.xml"/><Relationship Id="rId11" Type="http://schemas.openxmlformats.org/officeDocument/2006/relationships/slide" Target="slide13.xml"/><Relationship Id="rId12" Type="http://schemas.openxmlformats.org/officeDocument/2006/relationships/slide" Target="slide18.xml"/><Relationship Id="rId13" Type="http://schemas.openxmlformats.org/officeDocument/2006/relationships/slide" Target="slide19.xml"/><Relationship Id="rId14" Type="http://schemas.openxmlformats.org/officeDocument/2006/relationships/slide" Target="slide24.xml"/><Relationship Id="rId15" Type="http://schemas.openxmlformats.org/officeDocument/2006/relationships/slide" Target="slide9.xml"/><Relationship Id="rId16" Type="http://schemas.openxmlformats.org/officeDocument/2006/relationships/slide" Target="slide14.xml"/><Relationship Id="rId17" Type="http://schemas.openxmlformats.org/officeDocument/2006/relationships/slide" Target="slide23.xml"/><Relationship Id="rId18" Type="http://schemas.openxmlformats.org/officeDocument/2006/relationships/slide" Target="slide11.xml"/><Relationship Id="rId19" Type="http://schemas.openxmlformats.org/officeDocument/2006/relationships/slide" Target="slide12.xml"/><Relationship Id="rId20" Type="http://schemas.openxmlformats.org/officeDocument/2006/relationships/slide" Target="slide10.xml"/><Relationship Id="rId21" Type="http://schemas.openxmlformats.org/officeDocument/2006/relationships/slide" Target="slide15.xml"/><Relationship Id="rId22" Type="http://schemas.openxmlformats.org/officeDocument/2006/relationships/slide" Target="slide20.xml"/><Relationship Id="rId23" Type="http://schemas.openxmlformats.org/officeDocument/2006/relationships/slide" Target="slide16.xml"/><Relationship Id="rId24" Type="http://schemas.openxmlformats.org/officeDocument/2006/relationships/slide" Target="slide21.xml"/><Relationship Id="rId25" Type="http://schemas.openxmlformats.org/officeDocument/2006/relationships/slide" Target="slide17.xml"/><Relationship Id="rId26" Type="http://schemas.openxmlformats.org/officeDocument/2006/relationships/slide" Target="slide22.xml"/><Relationship Id="rId27" Type="http://schemas.openxmlformats.org/officeDocument/2006/relationships/slide" Target=""/><Relationship Id="rId28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838080" y="304920"/>
            <a:ext cx="678204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Jeopard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42" name=""/>
          <p:cNvSpPr/>
          <p:nvPr/>
        </p:nvSpPr>
        <p:spPr>
          <a:xfrm>
            <a:off x="380880" y="3200400"/>
            <a:ext cx="83822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9933"/>
                </a:solidFill>
                <a:latin typeface="Times New Roman"/>
              </a:rPr>
              <a:t>Choose a category.  </a:t>
            </a:r>
            <a:endParaRPr b="0" lang="en-US" sz="48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9933"/>
                </a:solidFill>
                <a:latin typeface="Times New Roman"/>
              </a:rPr>
              <a:t>You will be given the answer.  </a:t>
            </a:r>
            <a:endParaRPr b="0" lang="en-US" sz="48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9933"/>
                </a:solidFill>
                <a:latin typeface="Times New Roman"/>
              </a:rPr>
              <a:t>You must give the correct question.</a:t>
            </a:r>
            <a:endParaRPr b="0" lang="en-US" sz="4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3" name="">
            <a:hlinkClick r:id="rId1" action="ppaction://hlinksldjump"/>
          </p:cNvPr>
          <p:cNvSpPr/>
          <p:nvPr/>
        </p:nvSpPr>
        <p:spPr>
          <a:xfrm>
            <a:off x="5867280" y="5334120"/>
            <a:ext cx="2743200" cy="1218960"/>
          </a:xfrm>
          <a:custGeom>
            <a:avLst/>
            <a:gdLst>
              <a:gd name="textAreaLeft" fmla="*/ 78840 w 2743200"/>
              <a:gd name="textAreaRight" fmla="*/ 2664360 w 2743200"/>
              <a:gd name="textAreaTop" fmla="*/ 78840 h 1218960"/>
              <a:gd name="textAreaBottom" fmla="*/ 1140120 h 1218960"/>
            </a:gdLst>
            <a:ahLst/>
            <a:rect l="textAreaLeft" t="textAreaTop" r="textAreaRight" b="textAreaBottom"/>
            <a:pathLst>
              <a:path w="48602" h="21600">
                <a:moveTo>
                  <a:pt x="0" y="0"/>
                </a:moveTo>
                <a:lnTo>
                  <a:pt x="48602" y="0"/>
                </a:lnTo>
                <a:lnTo>
                  <a:pt x="48602" y="21600"/>
                </a:lnTo>
                <a:lnTo>
                  <a:pt x="0" y="21600"/>
                </a:lnTo>
                <a:close/>
              </a:path>
              <a:path fill="lightenLess" w="48602" h="21600">
                <a:moveTo>
                  <a:pt x="0" y="0"/>
                </a:moveTo>
                <a:lnTo>
                  <a:pt x="48602" y="0"/>
                </a:lnTo>
                <a:lnTo>
                  <a:pt x="47202" y="1400"/>
                </a:lnTo>
                <a:lnTo>
                  <a:pt x="1400" y="1400"/>
                </a:lnTo>
                <a:close/>
              </a:path>
              <a:path fill="darken" w="48602" h="21600">
                <a:moveTo>
                  <a:pt x="48602" y="0"/>
                </a:moveTo>
                <a:lnTo>
                  <a:pt x="48602" y="21600"/>
                </a:lnTo>
                <a:lnTo>
                  <a:pt x="47202" y="20200"/>
                </a:lnTo>
                <a:lnTo>
                  <a:pt x="47202" y="1400"/>
                </a:lnTo>
                <a:close/>
              </a:path>
              <a:path fill="darkenLess" w="48602" h="21600">
                <a:moveTo>
                  <a:pt x="486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202" y="20200"/>
                </a:lnTo>
                <a:close/>
              </a:path>
              <a:path fill="lighten" w="486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2" action="ppaction://hlinksldjump"/>
              </a:rPr>
              <a:t>Click to begin.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57200" y="476280"/>
            <a:ext cx="8229600" cy="59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1066680" y="430200"/>
            <a:ext cx="7010640" cy="60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762120" y="426960"/>
            <a:ext cx="7543800" cy="600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914400" y="1905120"/>
            <a:ext cx="7191360" cy="14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1066680" y="380880"/>
            <a:ext cx="701064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1371600"/>
            <a:ext cx="82296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533520" y="2819520"/>
            <a:ext cx="8153280" cy="107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57200" y="2057400"/>
            <a:ext cx="82296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33520" y="1752480"/>
            <a:ext cx="807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533520" y="1798560"/>
            <a:ext cx="8076960" cy="32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457200" y="1244520"/>
            <a:ext cx="8229600" cy="43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457200" y="2043000"/>
            <a:ext cx="8229600" cy="277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457200" y="0"/>
            <a:ext cx="571500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Choose a point value.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523880" y="1981080"/>
            <a:ext cx="571500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Choose a point value.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6" name="">
            <a:hlinkClick r:id="rId5" action="ppaction://hlinksldjump"/>
          </p:cNvPr>
          <p:cNvSpPr/>
          <p:nvPr/>
        </p:nvSpPr>
        <p:spPr>
          <a:xfrm>
            <a:off x="5562720" y="4724280"/>
            <a:ext cx="2971800" cy="1752840"/>
          </a:xfrm>
          <a:custGeom>
            <a:avLst/>
            <a:gdLst>
              <a:gd name="textAreaLeft" fmla="*/ 113400 w 2971800"/>
              <a:gd name="textAreaRight" fmla="*/ 2858400 w 2971800"/>
              <a:gd name="textAreaTop" fmla="*/ 113400 h 1752840"/>
              <a:gd name="textAreaBottom" fmla="*/ 1639440 h 1752840"/>
            </a:gdLst>
            <a:ahLst/>
            <a:rect l="textAreaLeft" t="textAreaTop" r="textAreaRight" b="textAreaBottom"/>
            <a:pathLst>
              <a:path w="36618" h="21600">
                <a:moveTo>
                  <a:pt x="0" y="0"/>
                </a:moveTo>
                <a:lnTo>
                  <a:pt x="36618" y="0"/>
                </a:lnTo>
                <a:lnTo>
                  <a:pt x="36618" y="21600"/>
                </a:lnTo>
                <a:lnTo>
                  <a:pt x="0" y="21600"/>
                </a:lnTo>
                <a:close/>
              </a:path>
              <a:path fill="lightenLess" w="36618" h="21600">
                <a:moveTo>
                  <a:pt x="0" y="0"/>
                </a:moveTo>
                <a:lnTo>
                  <a:pt x="36618" y="0"/>
                </a:lnTo>
                <a:lnTo>
                  <a:pt x="35218" y="1400"/>
                </a:lnTo>
                <a:lnTo>
                  <a:pt x="1400" y="1400"/>
                </a:lnTo>
                <a:close/>
              </a:path>
              <a:path fill="darken" w="36618" h="21600">
                <a:moveTo>
                  <a:pt x="36618" y="0"/>
                </a:moveTo>
                <a:lnTo>
                  <a:pt x="36618" y="21600"/>
                </a:lnTo>
                <a:lnTo>
                  <a:pt x="35218" y="20200"/>
                </a:lnTo>
                <a:lnTo>
                  <a:pt x="35218" y="1400"/>
                </a:lnTo>
                <a:close/>
              </a:path>
              <a:path fill="darkenLess" w="36618" h="21600">
                <a:moveTo>
                  <a:pt x="366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218" y="20200"/>
                </a:lnTo>
                <a:close/>
              </a:path>
              <a:path fill="lighten" w="366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791320" y="510552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9933"/>
                </a:solidFill>
                <a:uFillTx/>
                <a:latin typeface="Times New Roman"/>
                <a:hlinkClick r:id="rId6" action="ppaction://hlinksldjump"/>
              </a:rPr>
              <a:t>Click here for Final Jeopardy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150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62120" y="455760"/>
            <a:ext cx="7543800" cy="59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457200" y="722160"/>
            <a:ext cx="8229600" cy="54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09480" y="1600200"/>
            <a:ext cx="7925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457200" y="565200"/>
            <a:ext cx="8229600" cy="57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457200" y="2133720"/>
            <a:ext cx="82296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457200" y="1447920"/>
            <a:ext cx="822960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457200" y="1979640"/>
            <a:ext cx="8229600" cy="29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457200" y="893880"/>
            <a:ext cx="8229600" cy="50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457200" y="987480"/>
            <a:ext cx="8229600" cy="488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1447920"/>
            <a:ext cx="77724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457200" y="457200"/>
            <a:ext cx="822960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457200" y="733320"/>
            <a:ext cx="8229600" cy="539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>
            <a:hlinkClick r:id="rId1" action="ppaction://hlinksldjump"/>
          </p:cNvPr>
          <p:cNvSpPr/>
          <p:nvPr/>
        </p:nvSpPr>
        <p:spPr>
          <a:xfrm>
            <a:off x="0" y="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33"/>
                </a:solidFill>
                <a:latin typeface="Times New Roman"/>
              </a:rPr>
              <a:t>Numbers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9" name="">
            <a:hlinkClick r:id="rId2" action="ppaction://hlinksldjump"/>
          </p:cNvPr>
          <p:cNvSpPr/>
          <p:nvPr/>
        </p:nvSpPr>
        <p:spPr>
          <a:xfrm>
            <a:off x="1523880" y="0"/>
            <a:ext cx="1524240" cy="1143000"/>
          </a:xfrm>
          <a:custGeom>
            <a:avLst/>
            <a:gdLst>
              <a:gd name="textAreaLeft" fmla="*/ 73800 w 1524240"/>
              <a:gd name="textAreaRight" fmla="*/ 1450440 w 15242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802" h="21600">
                <a:moveTo>
                  <a:pt x="0" y="0"/>
                </a:moveTo>
                <a:lnTo>
                  <a:pt x="28802" y="0"/>
                </a:lnTo>
                <a:lnTo>
                  <a:pt x="28802" y="21600"/>
                </a:lnTo>
                <a:lnTo>
                  <a:pt x="0" y="21600"/>
                </a:lnTo>
                <a:close/>
              </a:path>
              <a:path fill="lightenLess" w="28802" h="21600">
                <a:moveTo>
                  <a:pt x="0" y="0"/>
                </a:moveTo>
                <a:lnTo>
                  <a:pt x="28802" y="0"/>
                </a:lnTo>
                <a:lnTo>
                  <a:pt x="27402" y="1400"/>
                </a:lnTo>
                <a:lnTo>
                  <a:pt x="1400" y="1400"/>
                </a:lnTo>
                <a:close/>
              </a:path>
              <a:path fill="darken" w="28802" h="21600">
                <a:moveTo>
                  <a:pt x="28802" y="0"/>
                </a:moveTo>
                <a:lnTo>
                  <a:pt x="28802" y="21600"/>
                </a:lnTo>
                <a:lnTo>
                  <a:pt x="27402" y="20200"/>
                </a:lnTo>
                <a:lnTo>
                  <a:pt x="27402" y="1400"/>
                </a:lnTo>
                <a:close/>
              </a:path>
              <a:path fill="darkenLess" w="28802" h="21600">
                <a:moveTo>
                  <a:pt x="2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2" y="20200"/>
                </a:lnTo>
                <a:close/>
              </a:path>
              <a:path fill="lighten" w="2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0" name="">
            <a:hlinkClick r:id="rId3" action="ppaction://hlinksldjump"/>
          </p:cNvPr>
          <p:cNvSpPr/>
          <p:nvPr/>
        </p:nvSpPr>
        <p:spPr>
          <a:xfrm>
            <a:off x="4572000" y="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1" name="">
            <a:hlinkClick r:id="rId4" action="ppaction://hlinksldjump"/>
          </p:cNvPr>
          <p:cNvSpPr/>
          <p:nvPr/>
        </p:nvSpPr>
        <p:spPr>
          <a:xfrm>
            <a:off x="6095880" y="0"/>
            <a:ext cx="1524240" cy="1143000"/>
          </a:xfrm>
          <a:custGeom>
            <a:avLst/>
            <a:gdLst>
              <a:gd name="textAreaLeft" fmla="*/ 73800 w 1524240"/>
              <a:gd name="textAreaRight" fmla="*/ 1450440 w 15242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802" h="21600">
                <a:moveTo>
                  <a:pt x="0" y="0"/>
                </a:moveTo>
                <a:lnTo>
                  <a:pt x="28802" y="0"/>
                </a:lnTo>
                <a:lnTo>
                  <a:pt x="28802" y="21600"/>
                </a:lnTo>
                <a:lnTo>
                  <a:pt x="0" y="21600"/>
                </a:lnTo>
                <a:close/>
              </a:path>
              <a:path fill="lightenLess" w="28802" h="21600">
                <a:moveTo>
                  <a:pt x="0" y="0"/>
                </a:moveTo>
                <a:lnTo>
                  <a:pt x="28802" y="0"/>
                </a:lnTo>
                <a:lnTo>
                  <a:pt x="27402" y="1400"/>
                </a:lnTo>
                <a:lnTo>
                  <a:pt x="1400" y="1400"/>
                </a:lnTo>
                <a:close/>
              </a:path>
              <a:path fill="darken" w="28802" h="21600">
                <a:moveTo>
                  <a:pt x="28802" y="0"/>
                </a:moveTo>
                <a:lnTo>
                  <a:pt x="28802" y="21600"/>
                </a:lnTo>
                <a:lnTo>
                  <a:pt x="27402" y="20200"/>
                </a:lnTo>
                <a:lnTo>
                  <a:pt x="27402" y="1400"/>
                </a:lnTo>
                <a:close/>
              </a:path>
              <a:path fill="darkenLess" w="28802" h="21600">
                <a:moveTo>
                  <a:pt x="2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2" y="20200"/>
                </a:lnTo>
                <a:close/>
              </a:path>
              <a:path fill="lighten" w="2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2" name="">
            <a:hlinkClick r:id="rId5" action="ppaction://hlinksldjump"/>
          </p:cNvPr>
          <p:cNvSpPr/>
          <p:nvPr/>
        </p:nvSpPr>
        <p:spPr>
          <a:xfrm>
            <a:off x="7620120" y="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114300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6" action="ppaction://hlinksldjump"/>
              </a:rPr>
              <a:t>10 Point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228600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7" action="ppaction://hlinksldjump"/>
              </a:rPr>
              <a:t>20 Point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342900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8" action="ppaction://hlinksldjump"/>
              </a:rPr>
              <a:t>30 Point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457200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9" action="ppaction://hlinksldjump"/>
              </a:rPr>
              <a:t>40 Point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571500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10" action="ppaction://hlinksldjump"/>
              </a:rPr>
              <a:t>50 Point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523880" y="1143000"/>
            <a:ext cx="1524240" cy="1143000"/>
          </a:xfrm>
          <a:custGeom>
            <a:avLst/>
            <a:gdLst>
              <a:gd name="textAreaLeft" fmla="*/ 73800 w 1524240"/>
              <a:gd name="textAreaRight" fmla="*/ 1450440 w 15242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802" h="21600">
                <a:moveTo>
                  <a:pt x="0" y="0"/>
                </a:moveTo>
                <a:lnTo>
                  <a:pt x="28802" y="0"/>
                </a:lnTo>
                <a:lnTo>
                  <a:pt x="28802" y="21600"/>
                </a:lnTo>
                <a:lnTo>
                  <a:pt x="0" y="21600"/>
                </a:lnTo>
                <a:close/>
              </a:path>
              <a:path fill="lightenLess" w="28802" h="21600">
                <a:moveTo>
                  <a:pt x="0" y="0"/>
                </a:moveTo>
                <a:lnTo>
                  <a:pt x="28802" y="0"/>
                </a:lnTo>
                <a:lnTo>
                  <a:pt x="27402" y="1400"/>
                </a:lnTo>
                <a:lnTo>
                  <a:pt x="1400" y="1400"/>
                </a:lnTo>
                <a:close/>
              </a:path>
              <a:path fill="darken" w="28802" h="21600">
                <a:moveTo>
                  <a:pt x="28802" y="0"/>
                </a:moveTo>
                <a:lnTo>
                  <a:pt x="28802" y="21600"/>
                </a:lnTo>
                <a:lnTo>
                  <a:pt x="27402" y="20200"/>
                </a:lnTo>
                <a:lnTo>
                  <a:pt x="27402" y="1400"/>
                </a:lnTo>
                <a:close/>
              </a:path>
              <a:path fill="darkenLess" w="28802" h="21600">
                <a:moveTo>
                  <a:pt x="2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2" y="20200"/>
                </a:lnTo>
                <a:close/>
              </a:path>
              <a:path fill="lighten" w="2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11" action="ppaction://hlinksldjump"/>
              </a:rPr>
              <a:t>10 Point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114300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12" action="ppaction://hlinksldjump"/>
              </a:rPr>
              <a:t>10 Point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0" y="114300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13" action="ppaction://hlinksldjump"/>
              </a:rPr>
              <a:t>10 Point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095880" y="1143000"/>
            <a:ext cx="1524240" cy="1143000"/>
          </a:xfrm>
          <a:custGeom>
            <a:avLst/>
            <a:gdLst>
              <a:gd name="textAreaLeft" fmla="*/ 73800 w 1524240"/>
              <a:gd name="textAreaRight" fmla="*/ 1450440 w 15242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802" h="21600">
                <a:moveTo>
                  <a:pt x="0" y="0"/>
                </a:moveTo>
                <a:lnTo>
                  <a:pt x="28802" y="0"/>
                </a:lnTo>
                <a:lnTo>
                  <a:pt x="28802" y="21600"/>
                </a:lnTo>
                <a:lnTo>
                  <a:pt x="0" y="21600"/>
                </a:lnTo>
                <a:close/>
              </a:path>
              <a:path fill="lightenLess" w="28802" h="21600">
                <a:moveTo>
                  <a:pt x="0" y="0"/>
                </a:moveTo>
                <a:lnTo>
                  <a:pt x="28802" y="0"/>
                </a:lnTo>
                <a:lnTo>
                  <a:pt x="27402" y="1400"/>
                </a:lnTo>
                <a:lnTo>
                  <a:pt x="1400" y="1400"/>
                </a:lnTo>
                <a:close/>
              </a:path>
              <a:path fill="darken" w="28802" h="21600">
                <a:moveTo>
                  <a:pt x="28802" y="0"/>
                </a:moveTo>
                <a:lnTo>
                  <a:pt x="28802" y="21600"/>
                </a:lnTo>
                <a:lnTo>
                  <a:pt x="27402" y="20200"/>
                </a:lnTo>
                <a:lnTo>
                  <a:pt x="27402" y="1400"/>
                </a:lnTo>
                <a:close/>
              </a:path>
              <a:path fill="darkenLess" w="28802" h="21600">
                <a:moveTo>
                  <a:pt x="2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2" y="20200"/>
                </a:lnTo>
                <a:close/>
              </a:path>
              <a:path fill="lighten" w="2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14" action="ppaction://hlinksldjump"/>
              </a:rPr>
              <a:t>10 Point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0120" y="114300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10 Point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23880" y="2286000"/>
            <a:ext cx="1524240" cy="1143000"/>
          </a:xfrm>
          <a:custGeom>
            <a:avLst/>
            <a:gdLst>
              <a:gd name="textAreaLeft" fmla="*/ 73800 w 1524240"/>
              <a:gd name="textAreaRight" fmla="*/ 1450440 w 15242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802" h="21600">
                <a:moveTo>
                  <a:pt x="0" y="0"/>
                </a:moveTo>
                <a:lnTo>
                  <a:pt x="28802" y="0"/>
                </a:lnTo>
                <a:lnTo>
                  <a:pt x="28802" y="21600"/>
                </a:lnTo>
                <a:lnTo>
                  <a:pt x="0" y="21600"/>
                </a:lnTo>
                <a:close/>
              </a:path>
              <a:path fill="lightenLess" w="28802" h="21600">
                <a:moveTo>
                  <a:pt x="0" y="0"/>
                </a:moveTo>
                <a:lnTo>
                  <a:pt x="28802" y="0"/>
                </a:lnTo>
                <a:lnTo>
                  <a:pt x="27402" y="1400"/>
                </a:lnTo>
                <a:lnTo>
                  <a:pt x="1400" y="1400"/>
                </a:lnTo>
                <a:close/>
              </a:path>
              <a:path fill="darken" w="28802" h="21600">
                <a:moveTo>
                  <a:pt x="28802" y="0"/>
                </a:moveTo>
                <a:lnTo>
                  <a:pt x="28802" y="21600"/>
                </a:lnTo>
                <a:lnTo>
                  <a:pt x="27402" y="20200"/>
                </a:lnTo>
                <a:lnTo>
                  <a:pt x="27402" y="1400"/>
                </a:lnTo>
                <a:close/>
              </a:path>
              <a:path fill="darkenLess" w="28802" h="21600">
                <a:moveTo>
                  <a:pt x="2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2" y="20200"/>
                </a:lnTo>
                <a:close/>
              </a:path>
              <a:path fill="lighten" w="2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15" action="ppaction://hlinksldjump"/>
              </a:rPr>
              <a:t>20 Point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048120" y="228600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16" action="ppaction://hlinksldjump"/>
              </a:rPr>
              <a:t>20 Point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228600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17" action="ppaction://hlinksldjump"/>
              </a:rPr>
              <a:t>20 Point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95880" y="2286000"/>
            <a:ext cx="1524240" cy="1143000"/>
          </a:xfrm>
          <a:custGeom>
            <a:avLst/>
            <a:gdLst>
              <a:gd name="textAreaLeft" fmla="*/ 73800 w 1524240"/>
              <a:gd name="textAreaRight" fmla="*/ 1450440 w 15242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802" h="21600">
                <a:moveTo>
                  <a:pt x="0" y="0"/>
                </a:moveTo>
                <a:lnTo>
                  <a:pt x="28802" y="0"/>
                </a:lnTo>
                <a:lnTo>
                  <a:pt x="28802" y="21600"/>
                </a:lnTo>
                <a:lnTo>
                  <a:pt x="0" y="21600"/>
                </a:lnTo>
                <a:close/>
              </a:path>
              <a:path fill="lightenLess" w="28802" h="21600">
                <a:moveTo>
                  <a:pt x="0" y="0"/>
                </a:moveTo>
                <a:lnTo>
                  <a:pt x="28802" y="0"/>
                </a:lnTo>
                <a:lnTo>
                  <a:pt x="27402" y="1400"/>
                </a:lnTo>
                <a:lnTo>
                  <a:pt x="1400" y="1400"/>
                </a:lnTo>
                <a:close/>
              </a:path>
              <a:path fill="darken" w="28802" h="21600">
                <a:moveTo>
                  <a:pt x="28802" y="0"/>
                </a:moveTo>
                <a:lnTo>
                  <a:pt x="28802" y="21600"/>
                </a:lnTo>
                <a:lnTo>
                  <a:pt x="27402" y="20200"/>
                </a:lnTo>
                <a:lnTo>
                  <a:pt x="27402" y="1400"/>
                </a:lnTo>
                <a:close/>
              </a:path>
              <a:path fill="darkenLess" w="28802" h="21600">
                <a:moveTo>
                  <a:pt x="2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2" y="20200"/>
                </a:lnTo>
                <a:close/>
              </a:path>
              <a:path fill="lighten" w="2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20 Point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620120" y="228600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20 Point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523880" y="3429000"/>
            <a:ext cx="1524240" cy="1143000"/>
          </a:xfrm>
          <a:custGeom>
            <a:avLst/>
            <a:gdLst>
              <a:gd name="textAreaLeft" fmla="*/ 73800 w 1524240"/>
              <a:gd name="textAreaRight" fmla="*/ 1450440 w 15242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802" h="21600">
                <a:moveTo>
                  <a:pt x="0" y="0"/>
                </a:moveTo>
                <a:lnTo>
                  <a:pt x="28802" y="0"/>
                </a:lnTo>
                <a:lnTo>
                  <a:pt x="28802" y="21600"/>
                </a:lnTo>
                <a:lnTo>
                  <a:pt x="0" y="21600"/>
                </a:lnTo>
                <a:close/>
              </a:path>
              <a:path fill="lightenLess" w="28802" h="21600">
                <a:moveTo>
                  <a:pt x="0" y="0"/>
                </a:moveTo>
                <a:lnTo>
                  <a:pt x="28802" y="0"/>
                </a:lnTo>
                <a:lnTo>
                  <a:pt x="27402" y="1400"/>
                </a:lnTo>
                <a:lnTo>
                  <a:pt x="1400" y="1400"/>
                </a:lnTo>
                <a:close/>
              </a:path>
              <a:path fill="darken" w="28802" h="21600">
                <a:moveTo>
                  <a:pt x="28802" y="0"/>
                </a:moveTo>
                <a:lnTo>
                  <a:pt x="28802" y="21600"/>
                </a:lnTo>
                <a:lnTo>
                  <a:pt x="27402" y="20200"/>
                </a:lnTo>
                <a:lnTo>
                  <a:pt x="27402" y="1400"/>
                </a:lnTo>
                <a:close/>
              </a:path>
              <a:path fill="darkenLess" w="28802" h="21600">
                <a:moveTo>
                  <a:pt x="2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2" y="20200"/>
                </a:lnTo>
                <a:close/>
              </a:path>
              <a:path fill="lighten" w="2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18" action="ppaction://hlinksldjump"/>
              </a:rPr>
              <a:t>30 Point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523880" y="4572000"/>
            <a:ext cx="1524240" cy="1143000"/>
          </a:xfrm>
          <a:custGeom>
            <a:avLst/>
            <a:gdLst>
              <a:gd name="textAreaLeft" fmla="*/ 73800 w 1524240"/>
              <a:gd name="textAreaRight" fmla="*/ 1450440 w 15242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802" h="21600">
                <a:moveTo>
                  <a:pt x="0" y="0"/>
                </a:moveTo>
                <a:lnTo>
                  <a:pt x="28802" y="0"/>
                </a:lnTo>
                <a:lnTo>
                  <a:pt x="28802" y="21600"/>
                </a:lnTo>
                <a:lnTo>
                  <a:pt x="0" y="21600"/>
                </a:lnTo>
                <a:close/>
              </a:path>
              <a:path fill="lightenLess" w="28802" h="21600">
                <a:moveTo>
                  <a:pt x="0" y="0"/>
                </a:moveTo>
                <a:lnTo>
                  <a:pt x="28802" y="0"/>
                </a:lnTo>
                <a:lnTo>
                  <a:pt x="27402" y="1400"/>
                </a:lnTo>
                <a:lnTo>
                  <a:pt x="1400" y="1400"/>
                </a:lnTo>
                <a:close/>
              </a:path>
              <a:path fill="darken" w="28802" h="21600">
                <a:moveTo>
                  <a:pt x="28802" y="0"/>
                </a:moveTo>
                <a:lnTo>
                  <a:pt x="28802" y="21600"/>
                </a:lnTo>
                <a:lnTo>
                  <a:pt x="27402" y="20200"/>
                </a:lnTo>
                <a:lnTo>
                  <a:pt x="27402" y="1400"/>
                </a:lnTo>
                <a:close/>
              </a:path>
              <a:path fill="darkenLess" w="28802" h="21600">
                <a:moveTo>
                  <a:pt x="2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2" y="20200"/>
                </a:lnTo>
                <a:close/>
              </a:path>
              <a:path fill="lighten" w="2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19" action="ppaction://hlinksldjump"/>
              </a:rPr>
              <a:t>40 Point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523880" y="5715000"/>
            <a:ext cx="1524240" cy="1143000"/>
          </a:xfrm>
          <a:custGeom>
            <a:avLst/>
            <a:gdLst>
              <a:gd name="textAreaLeft" fmla="*/ 73800 w 1524240"/>
              <a:gd name="textAreaRight" fmla="*/ 1450440 w 15242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802" h="21600">
                <a:moveTo>
                  <a:pt x="0" y="0"/>
                </a:moveTo>
                <a:lnTo>
                  <a:pt x="28802" y="0"/>
                </a:lnTo>
                <a:lnTo>
                  <a:pt x="28802" y="21600"/>
                </a:lnTo>
                <a:lnTo>
                  <a:pt x="0" y="21600"/>
                </a:lnTo>
                <a:close/>
              </a:path>
              <a:path fill="lightenLess" w="28802" h="21600">
                <a:moveTo>
                  <a:pt x="0" y="0"/>
                </a:moveTo>
                <a:lnTo>
                  <a:pt x="28802" y="0"/>
                </a:lnTo>
                <a:lnTo>
                  <a:pt x="27402" y="1400"/>
                </a:lnTo>
                <a:lnTo>
                  <a:pt x="1400" y="1400"/>
                </a:lnTo>
                <a:close/>
              </a:path>
              <a:path fill="darken" w="28802" h="21600">
                <a:moveTo>
                  <a:pt x="28802" y="0"/>
                </a:moveTo>
                <a:lnTo>
                  <a:pt x="28802" y="21600"/>
                </a:lnTo>
                <a:lnTo>
                  <a:pt x="27402" y="20200"/>
                </a:lnTo>
                <a:lnTo>
                  <a:pt x="27402" y="1400"/>
                </a:lnTo>
                <a:close/>
              </a:path>
              <a:path fill="darkenLess" w="28802" h="21600">
                <a:moveTo>
                  <a:pt x="2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2" y="20200"/>
                </a:lnTo>
                <a:close/>
              </a:path>
              <a:path fill="lighten" w="2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20" action="ppaction://hlinksldjump"/>
              </a:rPr>
              <a:t>50 Point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048120" y="342900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21" action="ppaction://hlinksldjump"/>
              </a:rPr>
              <a:t>30 Point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572000" y="342900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22" action="ppaction://hlinksldjump"/>
              </a:rPr>
              <a:t>30 Point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095880" y="3429000"/>
            <a:ext cx="1524240" cy="1143000"/>
          </a:xfrm>
          <a:custGeom>
            <a:avLst/>
            <a:gdLst>
              <a:gd name="textAreaLeft" fmla="*/ 73800 w 1524240"/>
              <a:gd name="textAreaRight" fmla="*/ 1450440 w 15242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802" h="21600">
                <a:moveTo>
                  <a:pt x="0" y="0"/>
                </a:moveTo>
                <a:lnTo>
                  <a:pt x="28802" y="0"/>
                </a:lnTo>
                <a:lnTo>
                  <a:pt x="28802" y="21600"/>
                </a:lnTo>
                <a:lnTo>
                  <a:pt x="0" y="21600"/>
                </a:lnTo>
                <a:close/>
              </a:path>
              <a:path fill="lightenLess" w="28802" h="21600">
                <a:moveTo>
                  <a:pt x="0" y="0"/>
                </a:moveTo>
                <a:lnTo>
                  <a:pt x="28802" y="0"/>
                </a:lnTo>
                <a:lnTo>
                  <a:pt x="27402" y="1400"/>
                </a:lnTo>
                <a:lnTo>
                  <a:pt x="1400" y="1400"/>
                </a:lnTo>
                <a:close/>
              </a:path>
              <a:path fill="darken" w="28802" h="21600">
                <a:moveTo>
                  <a:pt x="28802" y="0"/>
                </a:moveTo>
                <a:lnTo>
                  <a:pt x="28802" y="21600"/>
                </a:lnTo>
                <a:lnTo>
                  <a:pt x="27402" y="20200"/>
                </a:lnTo>
                <a:lnTo>
                  <a:pt x="27402" y="1400"/>
                </a:lnTo>
                <a:close/>
              </a:path>
              <a:path fill="darkenLess" w="28802" h="21600">
                <a:moveTo>
                  <a:pt x="2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2" y="20200"/>
                </a:lnTo>
                <a:close/>
              </a:path>
              <a:path fill="lighten" w="2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30 Point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620120" y="342900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30 Point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457200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23" action="ppaction://hlinksldjump"/>
              </a:rPr>
              <a:t>40 Point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572000" y="457200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24" action="ppaction://hlinksldjump"/>
              </a:rPr>
              <a:t>40 Point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4572000"/>
            <a:ext cx="1524240" cy="1143000"/>
          </a:xfrm>
          <a:custGeom>
            <a:avLst/>
            <a:gdLst>
              <a:gd name="textAreaLeft" fmla="*/ 73800 w 1524240"/>
              <a:gd name="textAreaRight" fmla="*/ 1450440 w 15242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802" h="21600">
                <a:moveTo>
                  <a:pt x="0" y="0"/>
                </a:moveTo>
                <a:lnTo>
                  <a:pt x="28802" y="0"/>
                </a:lnTo>
                <a:lnTo>
                  <a:pt x="28802" y="21600"/>
                </a:lnTo>
                <a:lnTo>
                  <a:pt x="0" y="21600"/>
                </a:lnTo>
                <a:close/>
              </a:path>
              <a:path fill="lightenLess" w="28802" h="21600">
                <a:moveTo>
                  <a:pt x="0" y="0"/>
                </a:moveTo>
                <a:lnTo>
                  <a:pt x="28802" y="0"/>
                </a:lnTo>
                <a:lnTo>
                  <a:pt x="27402" y="1400"/>
                </a:lnTo>
                <a:lnTo>
                  <a:pt x="1400" y="1400"/>
                </a:lnTo>
                <a:close/>
              </a:path>
              <a:path fill="darken" w="28802" h="21600">
                <a:moveTo>
                  <a:pt x="28802" y="0"/>
                </a:moveTo>
                <a:lnTo>
                  <a:pt x="28802" y="21600"/>
                </a:lnTo>
                <a:lnTo>
                  <a:pt x="27402" y="20200"/>
                </a:lnTo>
                <a:lnTo>
                  <a:pt x="27402" y="1400"/>
                </a:lnTo>
                <a:close/>
              </a:path>
              <a:path fill="darkenLess" w="28802" h="21600">
                <a:moveTo>
                  <a:pt x="2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2" y="20200"/>
                </a:lnTo>
                <a:close/>
              </a:path>
              <a:path fill="lighten" w="2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40 Point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620120" y="457200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40 Point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048120" y="571500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25" action="ppaction://hlinksldjump"/>
              </a:rPr>
              <a:t>50 Point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572000" y="571500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26" action="ppaction://hlinksldjump"/>
              </a:rPr>
              <a:t>50 Point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095880" y="5715000"/>
            <a:ext cx="1524240" cy="1143000"/>
          </a:xfrm>
          <a:custGeom>
            <a:avLst/>
            <a:gdLst>
              <a:gd name="textAreaLeft" fmla="*/ 73800 w 1524240"/>
              <a:gd name="textAreaRight" fmla="*/ 1450440 w 15242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802" h="21600">
                <a:moveTo>
                  <a:pt x="0" y="0"/>
                </a:moveTo>
                <a:lnTo>
                  <a:pt x="28802" y="0"/>
                </a:lnTo>
                <a:lnTo>
                  <a:pt x="28802" y="21600"/>
                </a:lnTo>
                <a:lnTo>
                  <a:pt x="0" y="21600"/>
                </a:lnTo>
                <a:close/>
              </a:path>
              <a:path fill="lightenLess" w="28802" h="21600">
                <a:moveTo>
                  <a:pt x="0" y="0"/>
                </a:moveTo>
                <a:lnTo>
                  <a:pt x="28802" y="0"/>
                </a:lnTo>
                <a:lnTo>
                  <a:pt x="27402" y="1400"/>
                </a:lnTo>
                <a:lnTo>
                  <a:pt x="1400" y="1400"/>
                </a:lnTo>
                <a:close/>
              </a:path>
              <a:path fill="darken" w="28802" h="21600">
                <a:moveTo>
                  <a:pt x="28802" y="0"/>
                </a:moveTo>
                <a:lnTo>
                  <a:pt x="28802" y="21600"/>
                </a:lnTo>
                <a:lnTo>
                  <a:pt x="27402" y="20200"/>
                </a:lnTo>
                <a:lnTo>
                  <a:pt x="27402" y="1400"/>
                </a:lnTo>
                <a:close/>
              </a:path>
              <a:path fill="darkenLess" w="28802" h="21600">
                <a:moveTo>
                  <a:pt x="2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2" y="20200"/>
                </a:lnTo>
                <a:close/>
              </a:path>
              <a:path fill="lighten" w="2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50 Point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620120" y="571500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50 Point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3" name="">
            <a:hlinkClick r:id="rId27" action="ppaction://hlinksldjump"/>
          </p:cNvPr>
          <p:cNvSpPr/>
          <p:nvPr/>
        </p:nvSpPr>
        <p:spPr>
          <a:xfrm>
            <a:off x="3048120" y="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598040" y="228600"/>
            <a:ext cx="1433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33"/>
                </a:solidFill>
                <a:latin typeface="Times New Roman"/>
              </a:rPr>
              <a:t>Probability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33"/>
                </a:solidFill>
                <a:latin typeface="Times New Roman"/>
              </a:rPr>
              <a:t>&amp; Statistics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048120" y="304920"/>
            <a:ext cx="144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33"/>
                </a:solidFill>
                <a:latin typeface="Times New Roman"/>
              </a:rPr>
              <a:t>Equations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724280" y="0"/>
            <a:ext cx="1295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33"/>
                </a:solidFill>
                <a:latin typeface="Times New Roman"/>
              </a:rPr>
              <a:t>Percents &amp; Patterns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248520" y="228600"/>
            <a:ext cx="1218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33"/>
                </a:solidFill>
                <a:latin typeface="Times New Roman"/>
              </a:rPr>
              <a:t>Area &amp; Volume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543800" y="152280"/>
            <a:ext cx="1600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33"/>
                </a:solidFill>
                <a:latin typeface="Times New Roman"/>
              </a:rPr>
              <a:t>Coordinates &amp; Graphs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914400" y="434880"/>
            <a:ext cx="7238880" cy="599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914400" y="473040"/>
            <a:ext cx="7315200" cy="591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457200" y="488880"/>
            <a:ext cx="8229600" cy="588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09480" y="182880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457200" y="457200"/>
            <a:ext cx="792468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066680" y="1752480"/>
            <a:ext cx="6858000" cy="30481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Final Jeopard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63" name=""/>
          <p:cNvSpPr/>
          <p:nvPr/>
        </p:nvSpPr>
        <p:spPr>
          <a:xfrm>
            <a:off x="4191120" y="5105520"/>
            <a:ext cx="3886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9933"/>
                </a:solidFill>
                <a:latin typeface="Times New Roman"/>
              </a:rPr>
              <a:t>Make your wager</a:t>
            </a:r>
            <a:endParaRPr b="0" lang="en-US" sz="30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>
            <a:hlinkClick r:id="" action="ppaction://hlinkshowjump?jump=endshow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85800" y="1371600"/>
            <a:ext cx="784872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Final Answer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09480" y="1600200"/>
            <a:ext cx="7925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457200" y="684360"/>
            <a:ext cx="8229600" cy="54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041560" y="1128600"/>
            <a:ext cx="1839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1143000" y="1981080"/>
            <a:ext cx="6858000" cy="29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533520" y="2438280"/>
            <a:ext cx="80769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8229600" cy="630072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457200" y="1371600"/>
            <a:ext cx="82296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04920" y="1752480"/>
            <a:ext cx="83818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57200" y="2174760"/>
            <a:ext cx="82296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228600" y="1981080"/>
            <a:ext cx="86104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0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1143000" y="457200"/>
            <a:ext cx="663588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838080" y="1066680"/>
            <a:ext cx="73915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3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09480" y="1447920"/>
            <a:ext cx="78487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457200" y="2092320"/>
            <a:ext cx="8229600" cy="267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685800" y="436680"/>
            <a:ext cx="7772400" cy="598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08T16:42:31Z</dcterms:created>
  <dc:creator>Valued Customer</dc:creator>
  <dc:description/>
  <dc:language>en-US</dc:language>
  <cp:lastModifiedBy>Gaston County Schools</cp:lastModifiedBy>
  <dcterms:modified xsi:type="dcterms:W3CDTF">2008-05-05T12:53:41Z</dcterms:modified>
  <cp:revision>32</cp:revision>
  <dc:subject/>
  <dc:title>No Slide Title</dc:title>
</cp:coreProperties>
</file>