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31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33.png" ContentType="image/png"/>
  <Override PartName="/ppt/media/image16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C1F8-9316-4A05-BCDB-E70EFD3B3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F5B7-77B3-4555-9865-BE265063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AD69-95A1-4F56-80D1-B54C51EC0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973F-80F7-49CC-9853-56C32FA6C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4D3EA-81A7-4339-A08F-17C0A6C3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DB3C-929D-4FF5-9348-878C98DE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FD21-C6C8-4C58-BEF5-E246EBB6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2EC-E425-4A4B-871F-405B5DFB1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8E22-50CC-4A77-A300-7C1DFE3E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469F-9B0A-4FEF-A356-300EF13E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FE05-76E3-4D09-A70E-D7DEABF3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38E5-2598-4111-BEEE-E9117508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D7C8-DD6F-439B-BD39-AF9AA810935F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34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6.xml"/><Relationship Id="rId10" Type="http://schemas.openxmlformats.org/officeDocument/2006/relationships/slide" Target="slide8.xml"/><Relationship Id="rId11" Type="http://schemas.openxmlformats.org/officeDocument/2006/relationships/slide" Target="slide13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24.xml"/><Relationship Id="rId15" Type="http://schemas.openxmlformats.org/officeDocument/2006/relationships/slide" Target="slide9.xml"/><Relationship Id="rId16" Type="http://schemas.openxmlformats.org/officeDocument/2006/relationships/slide" Target="slide14.xml"/><Relationship Id="rId17" Type="http://schemas.openxmlformats.org/officeDocument/2006/relationships/slide" Target="slide23.xml"/><Relationship Id="rId18" Type="http://schemas.openxmlformats.org/officeDocument/2006/relationships/slide" Target="slide11.xml"/><Relationship Id="rId19" Type="http://schemas.openxmlformats.org/officeDocument/2006/relationships/slide" Target="slide12.xml"/><Relationship Id="rId20" Type="http://schemas.openxmlformats.org/officeDocument/2006/relationships/slide" Target="slide10.xml"/><Relationship Id="rId21" Type="http://schemas.openxmlformats.org/officeDocument/2006/relationships/slide" Target="slide15.xml"/><Relationship Id="rId22" Type="http://schemas.openxmlformats.org/officeDocument/2006/relationships/slide" Target="slide20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17.xml"/><Relationship Id="rId26" Type="http://schemas.openxmlformats.org/officeDocument/2006/relationships/slide" Target="slide22.xml"/><Relationship Id="rId27" Type="http://schemas.openxmlformats.org/officeDocument/2006/relationships/slide" Target=""/><Relationship Id="rId2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476280"/>
            <a:ext cx="822960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430200"/>
            <a:ext cx="701064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2120" y="426960"/>
            <a:ext cx="754380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66680" y="380880"/>
            <a:ext cx="70106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815328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822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75248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3520" y="1798560"/>
            <a:ext cx="80769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1244520"/>
            <a:ext cx="822960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7200" y="2043000"/>
            <a:ext cx="82296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62120" y="455760"/>
            <a:ext cx="75438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722160"/>
            <a:ext cx="82296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" y="565200"/>
            <a:ext cx="82296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822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1979640"/>
            <a:ext cx="82296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893880"/>
            <a:ext cx="8229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987480"/>
            <a:ext cx="82296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447920"/>
            <a:ext cx="7772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733320"/>
            <a:ext cx="82296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Number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1523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457200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6095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7620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>
            <a:hlinkClick r:id="rId27" action="ppaction://hlinksldjump"/>
          </p:cNvPr>
          <p:cNvSpPr/>
          <p:nvPr/>
        </p:nvSpPr>
        <p:spPr>
          <a:xfrm>
            <a:off x="3048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98040" y="228600"/>
            <a:ext cx="14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robabilit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&amp; Statistic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3049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Equation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0"/>
            <a:ext cx="12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ercents &amp; Pattern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22860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Area &amp; Volum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522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Coordinates &amp; Graph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14400" y="434880"/>
            <a:ext cx="723888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14400" y="473040"/>
            <a:ext cx="731520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7200" y="488880"/>
            <a:ext cx="822960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828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7924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37160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inal Answ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684360"/>
            <a:ext cx="82296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6858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300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2174760"/>
            <a:ext cx="8229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635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447920"/>
            <a:ext cx="7848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2092320"/>
            <a:ext cx="82296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5800" y="436680"/>
            <a:ext cx="77724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Gaston County Schools</cp:lastModifiedBy>
  <dcterms:modified xsi:type="dcterms:W3CDTF">2008-05-05T12:53:41Z</dcterms:modified>
  <cp:revision>32</cp:revision>
  <dc:subject/>
  <dc:title>No Slide Title</dc:title>
</cp:coreProperties>
</file>