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0.png" ContentType="image/png"/>
  <Override PartName="/ppt/media/image18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32.wmf" ContentType="image/x-wmf"/>
  <Override PartName="/ppt/media/image12.wmf" ContentType="image/x-wmf"/>
  <Override PartName="/ppt/media/image31.wmf" ContentType="image/x-wmf"/>
  <Override PartName="/ppt/media/image28.png" ContentType="image/png"/>
  <Override PartName="/ppt/media/image13.wmf" ContentType="image/x-wmf"/>
  <Override PartName="/ppt/media/image30.png" ContentType="image/png"/>
  <Override PartName="/ppt/media/image8.wmf" ContentType="image/x-wmf"/>
  <Override PartName="/ppt/media/image9.wmf" ContentType="image/x-wmf"/>
  <Override PartName="/ppt/media/image33.png" ContentType="image/png"/>
  <Override PartName="/ppt/media/image16.wmf" ContentType="image/x-wmf"/>
  <Override PartName="/ppt/media/image5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24.png" ContentType="image/png"/>
  <Override PartName="/ppt/media/image14.wmf" ContentType="image/x-wmf"/>
  <Override PartName="/ppt/media/image15.wmf" ContentType="image/x-wmf"/>
  <Override PartName="/ppt/media/image17.png" ContentType="image/png"/>
  <Override PartName="/ppt/media/image19.wmf" ContentType="image/x-wmf"/>
  <Override PartName="/ppt/media/image2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FDB4-665B-4568-A8BB-5D82606B7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628C-C175-4AA5-8756-850644DD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7C6-8C8E-4462-85F5-78B7ED7E9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6AF-0DF1-437B-8234-405045A3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00E-3FEE-44C4-A939-45FF2D87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A0F2-AA73-4D52-83FB-AC562EBA9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15AE-1FB6-4632-A1A2-1CDCE94FB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ED4B-20AF-4687-989C-7939F3C03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3258-8F1C-4485-94F6-ACC0E361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743C-8851-43FF-8E04-1FFD234F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EB49-B7CF-4C69-881F-DCF0E6F47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7624-65D0-4333-920F-1F820DA9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10C2-7A76-4E75-B6EA-53212F6A0C31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"/><Relationship Id="rId6" Type="http://schemas.openxmlformats.org/officeDocument/2006/relationships/slide" Target="slide34.xml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7.xml"/><Relationship Id="rId9" Type="http://schemas.openxmlformats.org/officeDocument/2006/relationships/slide" Target="slide6.xml"/><Relationship Id="rId10" Type="http://schemas.openxmlformats.org/officeDocument/2006/relationships/slide" Target="slide8.xml"/><Relationship Id="rId11" Type="http://schemas.openxmlformats.org/officeDocument/2006/relationships/slide" Target="slide13.xml"/><Relationship Id="rId12" Type="http://schemas.openxmlformats.org/officeDocument/2006/relationships/slide" Target="slide18.xml"/><Relationship Id="rId13" Type="http://schemas.openxmlformats.org/officeDocument/2006/relationships/slide" Target="slide19.xml"/><Relationship Id="rId14" Type="http://schemas.openxmlformats.org/officeDocument/2006/relationships/slide" Target="slide24.xml"/><Relationship Id="rId15" Type="http://schemas.openxmlformats.org/officeDocument/2006/relationships/slide" Target="slide9.xml"/><Relationship Id="rId16" Type="http://schemas.openxmlformats.org/officeDocument/2006/relationships/slide" Target="slide14.xml"/><Relationship Id="rId17" Type="http://schemas.openxmlformats.org/officeDocument/2006/relationships/slide" Target="slide23.xml"/><Relationship Id="rId18" Type="http://schemas.openxmlformats.org/officeDocument/2006/relationships/slide" Target="slide11.xml"/><Relationship Id="rId19" Type="http://schemas.openxmlformats.org/officeDocument/2006/relationships/slide" Target="slide12.xml"/><Relationship Id="rId20" Type="http://schemas.openxmlformats.org/officeDocument/2006/relationships/slide" Target="slide10.xml"/><Relationship Id="rId21" Type="http://schemas.openxmlformats.org/officeDocument/2006/relationships/slide" Target="slide15.xml"/><Relationship Id="rId22" Type="http://schemas.openxmlformats.org/officeDocument/2006/relationships/slide" Target="slide20.xml"/><Relationship Id="rId23" Type="http://schemas.openxmlformats.org/officeDocument/2006/relationships/slide" Target="slide16.xml"/><Relationship Id="rId24" Type="http://schemas.openxmlformats.org/officeDocument/2006/relationships/slide" Target="slide21.xml"/><Relationship Id="rId25" Type="http://schemas.openxmlformats.org/officeDocument/2006/relationships/slide" Target="slide17.xml"/><Relationship Id="rId26" Type="http://schemas.openxmlformats.org/officeDocument/2006/relationships/slide" Target="slide22.xml"/><Relationship Id="rId27" Type="http://schemas.openxmlformats.org/officeDocument/2006/relationships/slide" Target=""/><Relationship Id="rId2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0" lang="en-US" sz="4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57200" y="476280"/>
            <a:ext cx="8229600" cy="59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430200"/>
            <a:ext cx="701064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2120" y="426960"/>
            <a:ext cx="754380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66680" y="380880"/>
            <a:ext cx="701064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3520" y="2819520"/>
            <a:ext cx="815328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57200" y="2057400"/>
            <a:ext cx="822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175248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33520" y="1798560"/>
            <a:ext cx="80769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57200" y="1244520"/>
            <a:ext cx="8229600" cy="43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57200" y="2043000"/>
            <a:ext cx="82296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62120" y="455760"/>
            <a:ext cx="75438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457200" y="722160"/>
            <a:ext cx="82296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457200" y="565200"/>
            <a:ext cx="822960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7200" y="2133720"/>
            <a:ext cx="8229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82296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1979640"/>
            <a:ext cx="82296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57200" y="893880"/>
            <a:ext cx="822960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57200" y="987480"/>
            <a:ext cx="822960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1447920"/>
            <a:ext cx="77724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82296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733320"/>
            <a:ext cx="822960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>
            <a:hlinkClick r:id="rId1" action="ppaction://hlinksldjump"/>
          </p:cNvPr>
          <p:cNvSpPr/>
          <p:nvPr/>
        </p:nvSpPr>
        <p:spPr>
          <a:xfrm>
            <a:off x="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Number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9" name="">
            <a:hlinkClick r:id="rId2" action="ppaction://hlinksldjump"/>
          </p:cNvPr>
          <p:cNvSpPr/>
          <p:nvPr/>
        </p:nvSpPr>
        <p:spPr>
          <a:xfrm>
            <a:off x="1523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">
            <a:hlinkClick r:id="rId3" action="ppaction://hlinksldjump"/>
          </p:cNvPr>
          <p:cNvSpPr/>
          <p:nvPr/>
        </p:nvSpPr>
        <p:spPr>
          <a:xfrm>
            <a:off x="457200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>
            <a:hlinkClick r:id="rId4" action="ppaction://hlinksldjump"/>
          </p:cNvPr>
          <p:cNvSpPr/>
          <p:nvPr/>
        </p:nvSpPr>
        <p:spPr>
          <a:xfrm>
            <a:off x="6095880" y="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>
            <a:hlinkClick r:id="rId5" action="ppaction://hlinksldjump"/>
          </p:cNvPr>
          <p:cNvSpPr/>
          <p:nvPr/>
        </p:nvSpPr>
        <p:spPr>
          <a:xfrm>
            <a:off x="7620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1143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0120" y="1143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10 Poi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8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2286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2286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2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3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23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7200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5880" y="3429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620120" y="3429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3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4572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0120" y="4572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4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5715000"/>
            <a:ext cx="1524240" cy="1143000"/>
          </a:xfrm>
          <a:custGeom>
            <a:avLst/>
            <a:gdLst>
              <a:gd name="textAreaLeft" fmla="*/ 73800 w 1524240"/>
              <a:gd name="textAreaRight" fmla="*/ 1450440 w 152424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802" h="21600">
                <a:moveTo>
                  <a:pt x="0" y="0"/>
                </a:moveTo>
                <a:lnTo>
                  <a:pt x="28802" y="0"/>
                </a:lnTo>
                <a:lnTo>
                  <a:pt x="28802" y="21600"/>
                </a:lnTo>
                <a:lnTo>
                  <a:pt x="0" y="21600"/>
                </a:lnTo>
                <a:close/>
              </a:path>
              <a:path fill="lightenLess" w="28802" h="21600">
                <a:moveTo>
                  <a:pt x="0" y="0"/>
                </a:moveTo>
                <a:lnTo>
                  <a:pt x="28802" y="0"/>
                </a:lnTo>
                <a:lnTo>
                  <a:pt x="27402" y="1400"/>
                </a:lnTo>
                <a:lnTo>
                  <a:pt x="1400" y="1400"/>
                </a:lnTo>
                <a:close/>
              </a:path>
              <a:path fill="darken" w="28802" h="21600">
                <a:moveTo>
                  <a:pt x="28802" y="0"/>
                </a:moveTo>
                <a:lnTo>
                  <a:pt x="28802" y="21600"/>
                </a:lnTo>
                <a:lnTo>
                  <a:pt x="27402" y="20200"/>
                </a:lnTo>
                <a:lnTo>
                  <a:pt x="27402" y="1400"/>
                </a:lnTo>
                <a:close/>
              </a:path>
              <a:path fill="darkenLess" w="28802" h="21600">
                <a:moveTo>
                  <a:pt x="288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2" y="20200"/>
                </a:lnTo>
                <a:close/>
              </a:path>
              <a:path fill="lighten" w="288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0120" y="57150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50 Point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>
            <a:hlinkClick r:id="rId27" action="ppaction://hlinksldjump"/>
          </p:cNvPr>
          <p:cNvSpPr/>
          <p:nvPr/>
        </p:nvSpPr>
        <p:spPr>
          <a:xfrm>
            <a:off x="3048120" y="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98040" y="228600"/>
            <a:ext cx="143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robability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&amp; Statistic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30492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Equation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24280" y="0"/>
            <a:ext cx="12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Percents &amp; Pattern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48520" y="22860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Area &amp; Volum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43800" y="152280"/>
            <a:ext cx="160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33"/>
                </a:solidFill>
                <a:latin typeface="Times New Roman"/>
              </a:rPr>
              <a:t>Coordinates &amp; Graph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914400" y="434880"/>
            <a:ext cx="7238880" cy="59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914400" y="473040"/>
            <a:ext cx="7315200" cy="591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" y="488880"/>
            <a:ext cx="82296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82880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57200" y="457200"/>
            <a:ext cx="792468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63" name="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85800" y="1371600"/>
            <a:ext cx="7848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inal Answer</a:t>
            </a: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160020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57200" y="684360"/>
            <a:ext cx="822960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43000" y="1981080"/>
            <a:ext cx="6858000" cy="29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229600" cy="63007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37160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57200" y="2174760"/>
            <a:ext cx="8229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66358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1447920"/>
            <a:ext cx="7848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457200" y="2092320"/>
            <a:ext cx="8229600" cy="26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85800" y="436680"/>
            <a:ext cx="77724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Gaston County Schools</cp:lastModifiedBy>
  <dcterms:modified xsi:type="dcterms:W3CDTF">2008-05-05T12:53:41Z</dcterms:modified>
  <cp:revision>32</cp:revision>
  <dc:subject/>
  <dc:title>No Slide Title</dc:title>
</cp:coreProperties>
</file>