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31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33.png" ContentType="image/png"/>
  <Override PartName="/ppt/media/image16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79DB-0E40-408D-9C52-E8AC2BAF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9FF-B3CF-45EC-A18C-BBF7AEEE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91A-1DA3-41BE-8191-9C87FC7D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39BE-1906-42E7-B1C2-EF7767CE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5C6B-7B08-4421-A2C1-4D30194E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FBE-00C9-4893-BD54-1806E76E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D81-007F-4BE6-BE57-FB84F4F0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AEB-B2C1-492E-AC1E-BDA616C4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DF37-0908-4643-94ED-E76CBF06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D14-48EF-4F80-BF23-64D9178B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BF5-ADF0-4622-A206-0FB79FE1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ABC-5B12-4E2A-9A6E-449D1272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E4EB-F27B-4FDC-8FDC-EEAFBC10FAAB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34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6.xml"/><Relationship Id="rId10" Type="http://schemas.openxmlformats.org/officeDocument/2006/relationships/slide" Target="slide8.xml"/><Relationship Id="rId11" Type="http://schemas.openxmlformats.org/officeDocument/2006/relationships/slide" Target="slide13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4.xml"/><Relationship Id="rId15" Type="http://schemas.openxmlformats.org/officeDocument/2006/relationships/slide" Target="slide9.xml"/><Relationship Id="rId16" Type="http://schemas.openxmlformats.org/officeDocument/2006/relationships/slide" Target="slide14.xml"/><Relationship Id="rId17" Type="http://schemas.openxmlformats.org/officeDocument/2006/relationships/slide" Target="slide23.xml"/><Relationship Id="rId18" Type="http://schemas.openxmlformats.org/officeDocument/2006/relationships/slide" Target="slide11.xml"/><Relationship Id="rId19" Type="http://schemas.openxmlformats.org/officeDocument/2006/relationships/slide" Target="slide12.xml"/><Relationship Id="rId20" Type="http://schemas.openxmlformats.org/officeDocument/2006/relationships/slide" Target="slide10.xml"/><Relationship Id="rId21" Type="http://schemas.openxmlformats.org/officeDocument/2006/relationships/slide" Target="slide15.xml"/><Relationship Id="rId22" Type="http://schemas.openxmlformats.org/officeDocument/2006/relationships/slide" Target="slide20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17.xml"/><Relationship Id="rId26" Type="http://schemas.openxmlformats.org/officeDocument/2006/relationships/slide" Target="slide22.xml"/><Relationship Id="rId27" Type="http://schemas.openxmlformats.org/officeDocument/2006/relationships/slide" Target=""/><Relationship Id="rId2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476280"/>
            <a:ext cx="822960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430200"/>
            <a:ext cx="701064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2120" y="426960"/>
            <a:ext cx="754380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66680" y="380880"/>
            <a:ext cx="70106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815328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822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75248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3520" y="1798560"/>
            <a:ext cx="80769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1244520"/>
            <a:ext cx="822960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7200" y="2043000"/>
            <a:ext cx="82296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62120" y="455760"/>
            <a:ext cx="75438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722160"/>
            <a:ext cx="82296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" y="565200"/>
            <a:ext cx="82296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822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1979640"/>
            <a:ext cx="82296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893880"/>
            <a:ext cx="8229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987480"/>
            <a:ext cx="82296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447920"/>
            <a:ext cx="7772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733320"/>
            <a:ext cx="82296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Number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1523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457200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6095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7620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>
            <a:hlinkClick r:id="rId27" action="ppaction://hlinksldjump"/>
          </p:cNvPr>
          <p:cNvSpPr/>
          <p:nvPr/>
        </p:nvSpPr>
        <p:spPr>
          <a:xfrm>
            <a:off x="3048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98040" y="228600"/>
            <a:ext cx="14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robabilit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&amp; Statistic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3049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Equation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0"/>
            <a:ext cx="12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ercents &amp; Pattern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22860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Area &amp; Volum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522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Coordinates &amp; Graph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14400" y="434880"/>
            <a:ext cx="723888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14400" y="473040"/>
            <a:ext cx="731520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" y="488880"/>
            <a:ext cx="82296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828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7924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37160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inal Answ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684360"/>
            <a:ext cx="82296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6858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300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2174760"/>
            <a:ext cx="8229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635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447920"/>
            <a:ext cx="7848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2092320"/>
            <a:ext cx="82296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5800" y="436680"/>
            <a:ext cx="77724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Gaston County Schools</cp:lastModifiedBy>
  <dcterms:modified xsi:type="dcterms:W3CDTF">2008-05-05T12:53:41Z</dcterms:modified>
  <cp:revision>32</cp:revision>
  <dc:subject/>
  <dc:title>No Slide Title</dc:title>
</cp:coreProperties>
</file>