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44DF-6BEB-49B6-B0E4-95F3130B9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87F5-52F0-4A35-B87C-01AE48F74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3527-F632-442E-AE47-B062C0893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BA8E-EDB0-44B4-809D-EB819D1D3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C0A93-A7EC-4157-B329-35AD4D44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A617F-1140-4080-8E2F-78B5ED3D9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F73D-E407-4777-B582-582EE9F0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BBBD0-EF07-4681-A50D-287F4471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AD607-354A-4732-8A44-CCC9B0A18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05EF-6B0B-487C-9322-2C43863E2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27C5-2DFA-4B7C-9D29-05678675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E5A7-AA2B-4703-BE05-DDA47CE3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946FE-53F2-45C7-84B8-FA5B451BE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D4E6E-1365-44C8-B7BE-0C7F6A561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E860-BFDF-419F-BA7F-14070FF7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A589-1BC5-46C2-B74E-48E87E36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9468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2232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9468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2232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34B96-713D-4C37-87D3-27A42DFE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1E4D-2B0D-4CD4-8B92-01263A890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0396B-88B9-44E2-BCF5-B4AF242A4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2B47-AB09-438F-B9BE-11E17D7D7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1503-4CC5-4125-A0E5-B7DE9A1AB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5BE7-B45D-4C18-9E14-501A912ED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936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7217-02B5-495E-B1A6-4DD274AA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6605-11D2-46B1-A5A7-1B8DF454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6899400" cy="6400800"/>
            <a:chOff x="0" y="152280"/>
            <a:chExt cx="6899400" cy="6400800"/>
          </a:xfrm>
        </p:grpSpPr>
        <p:sp>
          <p:nvSpPr>
            <p:cNvPr id="1" name=""/>
            <p:cNvSpPr/>
            <p:nvPr/>
          </p:nvSpPr>
          <p:spPr>
            <a:xfrm>
              <a:off x="0" y="1666800"/>
              <a:ext cx="6899400" cy="171360"/>
            </a:xfrm>
            <a:custGeom>
              <a:avLst/>
              <a:gdLst/>
              <a:ahLst/>
              <a:rect l="l" t="t" r="r" b="b"/>
              <a:pathLst>
                <a:path w="4346" h="108">
                  <a:moveTo>
                    <a:pt x="3477" y="10"/>
                  </a:moveTo>
                  <a:cubicBezTo>
                    <a:pt x="3680" y="12"/>
                    <a:pt x="3921" y="14"/>
                    <a:pt x="4057" y="17"/>
                  </a:cubicBezTo>
                  <a:cubicBezTo>
                    <a:pt x="4192" y="20"/>
                    <a:pt x="4253" y="24"/>
                    <a:pt x="4293" y="30"/>
                  </a:cubicBezTo>
                  <a:cubicBezTo>
                    <a:pt x="4333" y="36"/>
                    <a:pt x="4286" y="43"/>
                    <a:pt x="4293" y="50"/>
                  </a:cubicBezTo>
                  <a:cubicBezTo>
                    <a:pt x="4300" y="57"/>
                    <a:pt x="4328" y="67"/>
                    <a:pt x="4329" y="73"/>
                  </a:cubicBezTo>
                  <a:cubicBezTo>
                    <a:pt x="4331" y="80"/>
                    <a:pt x="4346" y="85"/>
                    <a:pt x="4305" y="89"/>
                  </a:cubicBezTo>
                  <a:cubicBezTo>
                    <a:pt x="4263" y="93"/>
                    <a:pt x="4186" y="97"/>
                    <a:pt x="4082" y="99"/>
                  </a:cubicBezTo>
                  <a:cubicBezTo>
                    <a:pt x="3977" y="100"/>
                    <a:pt x="3834" y="99"/>
                    <a:pt x="3675" y="99"/>
                  </a:cubicBezTo>
                  <a:cubicBezTo>
                    <a:pt x="3516" y="98"/>
                    <a:pt x="3341" y="95"/>
                    <a:pt x="3129" y="94"/>
                  </a:cubicBezTo>
                  <a:cubicBezTo>
                    <a:pt x="2918" y="93"/>
                    <a:pt x="2634" y="94"/>
                    <a:pt x="2401" y="94"/>
                  </a:cubicBezTo>
                  <a:cubicBezTo>
                    <a:pt x="2168" y="95"/>
                    <a:pt x="2024" y="97"/>
                    <a:pt x="1733" y="98"/>
                  </a:cubicBezTo>
                  <a:cubicBezTo>
                    <a:pt x="1442" y="99"/>
                    <a:pt x="946" y="103"/>
                    <a:pt x="657" y="102"/>
                  </a:cubicBezTo>
                  <a:cubicBezTo>
                    <a:pt x="368" y="101"/>
                    <a:pt x="110" y="108"/>
                    <a:pt x="1" y="93"/>
                  </a:cubicBezTo>
                  <a:lnTo>
                    <a:pt x="0" y="13"/>
                  </a:lnTo>
                  <a:cubicBezTo>
                    <a:pt x="109" y="0"/>
                    <a:pt x="432" y="13"/>
                    <a:pt x="657" y="12"/>
                  </a:cubicBezTo>
                  <a:cubicBezTo>
                    <a:pt x="882" y="11"/>
                    <a:pt x="1082" y="7"/>
                    <a:pt x="1349" y="7"/>
                  </a:cubicBezTo>
                  <a:cubicBezTo>
                    <a:pt x="1617" y="6"/>
                    <a:pt x="2017" y="8"/>
                    <a:pt x="2265" y="9"/>
                  </a:cubicBezTo>
                  <a:cubicBezTo>
                    <a:pt x="2513" y="9"/>
                    <a:pt x="2634" y="9"/>
                    <a:pt x="2834" y="8"/>
                  </a:cubicBezTo>
                  <a:cubicBezTo>
                    <a:pt x="3034" y="9"/>
                    <a:pt x="3273" y="9"/>
                    <a:pt x="3477" y="10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98360" y="152280"/>
              <a:ext cx="716040" cy="6400800"/>
            </a:xfrm>
            <a:custGeom>
              <a:avLst/>
              <a:gdLst/>
              <a:ahLst/>
              <a:rect l="l" t="t" r="r" b="b"/>
              <a:pathLst>
                <a:path w="883" h="4115">
                  <a:moveTo>
                    <a:pt x="86" y="3201"/>
                  </a:moveTo>
                  <a:cubicBezTo>
                    <a:pt x="89" y="3056"/>
                    <a:pt x="83" y="2912"/>
                    <a:pt x="79" y="2730"/>
                  </a:cubicBezTo>
                  <a:cubicBezTo>
                    <a:pt x="75" y="2548"/>
                    <a:pt x="60" y="2270"/>
                    <a:pt x="64" y="2109"/>
                  </a:cubicBezTo>
                  <a:cubicBezTo>
                    <a:pt x="68" y="1948"/>
                    <a:pt x="99" y="1927"/>
                    <a:pt x="101" y="1765"/>
                  </a:cubicBezTo>
                  <a:cubicBezTo>
                    <a:pt x="103" y="1603"/>
                    <a:pt x="90" y="1323"/>
                    <a:pt x="79" y="1137"/>
                  </a:cubicBezTo>
                  <a:cubicBezTo>
                    <a:pt x="68" y="951"/>
                    <a:pt x="44" y="793"/>
                    <a:pt x="34" y="651"/>
                  </a:cubicBezTo>
                  <a:cubicBezTo>
                    <a:pt x="24" y="509"/>
                    <a:pt x="17" y="385"/>
                    <a:pt x="19" y="284"/>
                  </a:cubicBezTo>
                  <a:cubicBezTo>
                    <a:pt x="21" y="183"/>
                    <a:pt x="32" y="90"/>
                    <a:pt x="49" y="45"/>
                  </a:cubicBezTo>
                  <a:cubicBezTo>
                    <a:pt x="66" y="0"/>
                    <a:pt x="91" y="16"/>
                    <a:pt x="123" y="15"/>
                  </a:cubicBezTo>
                  <a:cubicBezTo>
                    <a:pt x="155" y="14"/>
                    <a:pt x="204" y="37"/>
                    <a:pt x="243" y="37"/>
                  </a:cubicBezTo>
                  <a:cubicBezTo>
                    <a:pt x="282" y="37"/>
                    <a:pt x="310" y="20"/>
                    <a:pt x="355" y="15"/>
                  </a:cubicBezTo>
                  <a:cubicBezTo>
                    <a:pt x="400" y="10"/>
                    <a:pt x="453" y="0"/>
                    <a:pt x="512" y="7"/>
                  </a:cubicBezTo>
                  <a:cubicBezTo>
                    <a:pt x="571" y="14"/>
                    <a:pt x="659" y="37"/>
                    <a:pt x="707" y="60"/>
                  </a:cubicBezTo>
                  <a:cubicBezTo>
                    <a:pt x="755" y="83"/>
                    <a:pt x="783" y="99"/>
                    <a:pt x="797" y="142"/>
                  </a:cubicBezTo>
                  <a:cubicBezTo>
                    <a:pt x="811" y="185"/>
                    <a:pt x="788" y="235"/>
                    <a:pt x="789" y="321"/>
                  </a:cubicBezTo>
                  <a:cubicBezTo>
                    <a:pt x="790" y="407"/>
                    <a:pt x="794" y="537"/>
                    <a:pt x="804" y="658"/>
                  </a:cubicBezTo>
                  <a:cubicBezTo>
                    <a:pt x="814" y="779"/>
                    <a:pt x="844" y="892"/>
                    <a:pt x="849" y="1047"/>
                  </a:cubicBezTo>
                  <a:cubicBezTo>
                    <a:pt x="854" y="1202"/>
                    <a:pt x="840" y="1394"/>
                    <a:pt x="834" y="1586"/>
                  </a:cubicBezTo>
                  <a:cubicBezTo>
                    <a:pt x="828" y="1778"/>
                    <a:pt x="805" y="1995"/>
                    <a:pt x="812" y="2199"/>
                  </a:cubicBezTo>
                  <a:cubicBezTo>
                    <a:pt x="819" y="2403"/>
                    <a:pt x="875" y="2624"/>
                    <a:pt x="879" y="2812"/>
                  </a:cubicBezTo>
                  <a:cubicBezTo>
                    <a:pt x="883" y="3000"/>
                    <a:pt x="840" y="3138"/>
                    <a:pt x="834" y="3329"/>
                  </a:cubicBezTo>
                  <a:cubicBezTo>
                    <a:pt x="828" y="3520"/>
                    <a:pt x="848" y="3836"/>
                    <a:pt x="842" y="3957"/>
                  </a:cubicBezTo>
                  <a:cubicBezTo>
                    <a:pt x="836" y="4078"/>
                    <a:pt x="833" y="4033"/>
                    <a:pt x="797" y="4054"/>
                  </a:cubicBezTo>
                  <a:cubicBezTo>
                    <a:pt x="761" y="4075"/>
                    <a:pt x="686" y="4086"/>
                    <a:pt x="625" y="4084"/>
                  </a:cubicBezTo>
                  <a:cubicBezTo>
                    <a:pt x="564" y="4082"/>
                    <a:pt x="492" y="4041"/>
                    <a:pt x="430" y="4039"/>
                  </a:cubicBezTo>
                  <a:cubicBezTo>
                    <a:pt x="368" y="4037"/>
                    <a:pt x="302" y="4057"/>
                    <a:pt x="251" y="4069"/>
                  </a:cubicBezTo>
                  <a:cubicBezTo>
                    <a:pt x="200" y="4081"/>
                    <a:pt x="162" y="4115"/>
                    <a:pt x="123" y="4114"/>
                  </a:cubicBezTo>
                  <a:cubicBezTo>
                    <a:pt x="84" y="4113"/>
                    <a:pt x="38" y="4102"/>
                    <a:pt x="19" y="4062"/>
                  </a:cubicBezTo>
                  <a:cubicBezTo>
                    <a:pt x="0" y="4022"/>
                    <a:pt x="3" y="3952"/>
                    <a:pt x="11" y="3875"/>
                  </a:cubicBezTo>
                  <a:cubicBezTo>
                    <a:pt x="19" y="3798"/>
                    <a:pt x="51" y="3710"/>
                    <a:pt x="64" y="3598"/>
                  </a:cubicBezTo>
                  <a:cubicBezTo>
                    <a:pt x="77" y="3486"/>
                    <a:pt x="83" y="3346"/>
                    <a:pt x="86" y="3201"/>
                  </a:cubicBezTo>
                  <a:close/>
                </a:path>
              </a:pathLst>
            </a:custGeom>
            <a:solidFill>
              <a:srgbClr val="9f83b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09480" y="1295280"/>
              <a:ext cx="152640" cy="914400"/>
            </a:xfrm>
            <a:custGeom>
              <a:avLst/>
              <a:gdLst/>
              <a:ahLst/>
              <a:rect l="l" t="t" r="r" b="b"/>
              <a:pathLst>
                <a:path w="110" h="842">
                  <a:moveTo>
                    <a:pt x="92" y="0"/>
                  </a:moveTo>
                  <a:lnTo>
                    <a:pt x="81" y="170"/>
                  </a:lnTo>
                  <a:lnTo>
                    <a:pt x="51" y="362"/>
                  </a:lnTo>
                  <a:lnTo>
                    <a:pt x="74" y="539"/>
                  </a:lnTo>
                  <a:lnTo>
                    <a:pt x="88" y="709"/>
                  </a:lnTo>
                  <a:lnTo>
                    <a:pt x="110" y="842"/>
                  </a:lnTo>
                  <a:lnTo>
                    <a:pt x="81" y="768"/>
                  </a:lnTo>
                  <a:lnTo>
                    <a:pt x="59" y="716"/>
                  </a:lnTo>
                  <a:lnTo>
                    <a:pt x="29" y="598"/>
                  </a:lnTo>
                  <a:lnTo>
                    <a:pt x="0" y="414"/>
                  </a:lnTo>
                  <a:lnTo>
                    <a:pt x="22" y="251"/>
                  </a:lnTo>
                  <a:lnTo>
                    <a:pt x="51" y="81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66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C91B-2841-41A6-8CE7-7EA0DB8879D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28600" y="3124080"/>
            <a:ext cx="8564400" cy="390240"/>
            <a:chOff x="228600" y="3124080"/>
            <a:chExt cx="8564400" cy="390240"/>
          </a:xfrm>
        </p:grpSpPr>
        <p:sp>
          <p:nvSpPr>
            <p:cNvPr id="46" name=""/>
            <p:cNvSpPr/>
            <p:nvPr/>
          </p:nvSpPr>
          <p:spPr>
            <a:xfrm flipH="1" flipV="1" rot="16200000">
              <a:off x="4434480" y="-930240"/>
              <a:ext cx="152280" cy="8564400"/>
            </a:xfrm>
            <a:custGeom>
              <a:avLst/>
              <a:gdLst/>
              <a:ahLst/>
              <a:rect l="l" t="t" r="r" b="b"/>
              <a:pathLst>
                <a:path w="1699" h="3264">
                  <a:moveTo>
                    <a:pt x="91" y="526"/>
                  </a:moveTo>
                  <a:cubicBezTo>
                    <a:pt x="116" y="403"/>
                    <a:pt x="152" y="257"/>
                    <a:pt x="211" y="175"/>
                  </a:cubicBezTo>
                  <a:cubicBezTo>
                    <a:pt x="270" y="93"/>
                    <a:pt x="345" y="56"/>
                    <a:pt x="443" y="32"/>
                  </a:cubicBezTo>
                  <a:cubicBezTo>
                    <a:pt x="541" y="8"/>
                    <a:pt x="675" y="36"/>
                    <a:pt x="802" y="32"/>
                  </a:cubicBezTo>
                  <a:cubicBezTo>
                    <a:pt x="929" y="28"/>
                    <a:pt x="1093" y="11"/>
                    <a:pt x="1206" y="10"/>
                  </a:cubicBezTo>
                  <a:cubicBezTo>
                    <a:pt x="1319" y="9"/>
                    <a:pt x="1407" y="0"/>
                    <a:pt x="1482" y="25"/>
                  </a:cubicBezTo>
                  <a:cubicBezTo>
                    <a:pt x="1557" y="50"/>
                    <a:pt x="1626" y="97"/>
                    <a:pt x="1655" y="160"/>
                  </a:cubicBezTo>
                  <a:cubicBezTo>
                    <a:pt x="1684" y="223"/>
                    <a:pt x="1669" y="310"/>
                    <a:pt x="1655" y="406"/>
                  </a:cubicBezTo>
                  <a:cubicBezTo>
                    <a:pt x="1641" y="502"/>
                    <a:pt x="1587" y="608"/>
                    <a:pt x="1572" y="736"/>
                  </a:cubicBezTo>
                  <a:cubicBezTo>
                    <a:pt x="1557" y="864"/>
                    <a:pt x="1555" y="1036"/>
                    <a:pt x="1565" y="1177"/>
                  </a:cubicBezTo>
                  <a:cubicBezTo>
                    <a:pt x="1575" y="1318"/>
                    <a:pt x="1611" y="1405"/>
                    <a:pt x="1632" y="1581"/>
                  </a:cubicBezTo>
                  <a:cubicBezTo>
                    <a:pt x="1653" y="1757"/>
                    <a:pt x="1699" y="2024"/>
                    <a:pt x="1692" y="2232"/>
                  </a:cubicBezTo>
                  <a:cubicBezTo>
                    <a:pt x="1685" y="2440"/>
                    <a:pt x="1598" y="2693"/>
                    <a:pt x="1587" y="2830"/>
                  </a:cubicBezTo>
                  <a:cubicBezTo>
                    <a:pt x="1576" y="2967"/>
                    <a:pt x="1634" y="2988"/>
                    <a:pt x="1625" y="3055"/>
                  </a:cubicBezTo>
                  <a:cubicBezTo>
                    <a:pt x="1616" y="3122"/>
                    <a:pt x="1585" y="3204"/>
                    <a:pt x="1535" y="3234"/>
                  </a:cubicBezTo>
                  <a:cubicBezTo>
                    <a:pt x="1485" y="3264"/>
                    <a:pt x="1427" y="3239"/>
                    <a:pt x="1325" y="3234"/>
                  </a:cubicBezTo>
                  <a:cubicBezTo>
                    <a:pt x="1223" y="3229"/>
                    <a:pt x="1057" y="3202"/>
                    <a:pt x="921" y="3204"/>
                  </a:cubicBezTo>
                  <a:cubicBezTo>
                    <a:pt x="785" y="3206"/>
                    <a:pt x="641" y="3255"/>
                    <a:pt x="510" y="3249"/>
                  </a:cubicBezTo>
                  <a:cubicBezTo>
                    <a:pt x="379" y="3243"/>
                    <a:pt x="214" y="3217"/>
                    <a:pt x="136" y="3167"/>
                  </a:cubicBezTo>
                  <a:cubicBezTo>
                    <a:pt x="58" y="3117"/>
                    <a:pt x="45" y="3036"/>
                    <a:pt x="39" y="2950"/>
                  </a:cubicBezTo>
                  <a:cubicBezTo>
                    <a:pt x="33" y="2864"/>
                    <a:pt x="89" y="2771"/>
                    <a:pt x="99" y="2651"/>
                  </a:cubicBezTo>
                  <a:cubicBezTo>
                    <a:pt x="109" y="2531"/>
                    <a:pt x="114" y="2372"/>
                    <a:pt x="99" y="2232"/>
                  </a:cubicBezTo>
                  <a:cubicBezTo>
                    <a:pt x="84" y="2092"/>
                    <a:pt x="18" y="1975"/>
                    <a:pt x="9" y="1813"/>
                  </a:cubicBezTo>
                  <a:cubicBezTo>
                    <a:pt x="0" y="1651"/>
                    <a:pt x="37" y="1409"/>
                    <a:pt x="46" y="1259"/>
                  </a:cubicBezTo>
                  <a:cubicBezTo>
                    <a:pt x="55" y="1109"/>
                    <a:pt x="52" y="1036"/>
                    <a:pt x="61" y="915"/>
                  </a:cubicBezTo>
                  <a:cubicBezTo>
                    <a:pt x="70" y="794"/>
                    <a:pt x="66" y="649"/>
                    <a:pt x="91" y="526"/>
                  </a:cubicBezTo>
                  <a:close/>
                </a:path>
              </a:pathLst>
            </a:custGeom>
            <a:solidFill>
              <a:srgbClr val="c6c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3809880" y="3124080"/>
              <a:ext cx="1219320" cy="390240"/>
              <a:chOff x="3809880" y="3124080"/>
              <a:chExt cx="1219320" cy="390240"/>
            </a:xfrm>
          </p:grpSpPr>
          <p:grpSp>
            <p:nvGrpSpPr>
              <p:cNvPr id="48" name=""/>
              <p:cNvGrpSpPr/>
              <p:nvPr/>
            </p:nvGrpSpPr>
            <p:grpSpPr>
              <a:xfrm>
                <a:off x="3809880" y="3124440"/>
                <a:ext cx="1219320" cy="389880"/>
                <a:chOff x="3809880" y="3124440"/>
                <a:chExt cx="1219320" cy="38988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3906000" y="3241800"/>
                  <a:ext cx="1123200" cy="272520"/>
                </a:xfrm>
                <a:custGeom>
                  <a:avLst/>
                  <a:gdLst/>
                  <a:ahLst/>
                  <a:rect l="l" t="t" r="r" b="b"/>
                  <a:pathLst>
                    <a:path w="2161" h="457">
                      <a:moveTo>
                        <a:pt x="7" y="139"/>
                      </a:moveTo>
                      <a:cubicBezTo>
                        <a:pt x="13" y="175"/>
                        <a:pt x="59" y="234"/>
                        <a:pt x="89" y="266"/>
                      </a:cubicBezTo>
                      <a:cubicBezTo>
                        <a:pt x="119" y="298"/>
                        <a:pt x="143" y="327"/>
                        <a:pt x="187" y="333"/>
                      </a:cubicBezTo>
                      <a:cubicBezTo>
                        <a:pt x="231" y="339"/>
                        <a:pt x="289" y="312"/>
                        <a:pt x="351" y="303"/>
                      </a:cubicBezTo>
                      <a:cubicBezTo>
                        <a:pt x="413" y="294"/>
                        <a:pt x="478" y="288"/>
                        <a:pt x="561" y="281"/>
                      </a:cubicBezTo>
                      <a:cubicBezTo>
                        <a:pt x="644" y="274"/>
                        <a:pt x="751" y="263"/>
                        <a:pt x="852" y="259"/>
                      </a:cubicBezTo>
                      <a:cubicBezTo>
                        <a:pt x="953" y="255"/>
                        <a:pt x="1052" y="249"/>
                        <a:pt x="1167" y="259"/>
                      </a:cubicBezTo>
                      <a:cubicBezTo>
                        <a:pt x="1282" y="269"/>
                        <a:pt x="1443" y="294"/>
                        <a:pt x="1541" y="318"/>
                      </a:cubicBezTo>
                      <a:cubicBezTo>
                        <a:pt x="1639" y="342"/>
                        <a:pt x="1697" y="379"/>
                        <a:pt x="1758" y="401"/>
                      </a:cubicBezTo>
                      <a:cubicBezTo>
                        <a:pt x="1819" y="423"/>
                        <a:pt x="1858" y="449"/>
                        <a:pt x="1907" y="453"/>
                      </a:cubicBezTo>
                      <a:cubicBezTo>
                        <a:pt x="1956" y="457"/>
                        <a:pt x="2015" y="440"/>
                        <a:pt x="2049" y="423"/>
                      </a:cubicBezTo>
                      <a:cubicBezTo>
                        <a:pt x="2083" y="406"/>
                        <a:pt x="2099" y="377"/>
                        <a:pt x="2109" y="348"/>
                      </a:cubicBezTo>
                      <a:cubicBezTo>
                        <a:pt x="2119" y="319"/>
                        <a:pt x="2127" y="283"/>
                        <a:pt x="2109" y="251"/>
                      </a:cubicBezTo>
                      <a:cubicBezTo>
                        <a:pt x="2091" y="219"/>
                        <a:pt x="2161" y="191"/>
                        <a:pt x="2004" y="154"/>
                      </a:cubicBezTo>
                      <a:cubicBezTo>
                        <a:pt x="1847" y="117"/>
                        <a:pt x="1445" y="52"/>
                        <a:pt x="1167" y="27"/>
                      </a:cubicBezTo>
                      <a:cubicBezTo>
                        <a:pt x="889" y="2"/>
                        <a:pt x="522" y="0"/>
                        <a:pt x="336" y="4"/>
                      </a:cubicBezTo>
                      <a:cubicBezTo>
                        <a:pt x="150" y="8"/>
                        <a:pt x="104" y="27"/>
                        <a:pt x="52" y="49"/>
                      </a:cubicBezTo>
                      <a:cubicBezTo>
                        <a:pt x="0" y="71"/>
                        <a:pt x="1" y="103"/>
                        <a:pt x="7" y="139"/>
                      </a:cubicBezTo>
                      <a:close/>
                    </a:path>
                  </a:pathLst>
                </a:custGeom>
                <a:solidFill>
                  <a:srgbClr val="892d5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3809880" y="3124440"/>
                  <a:ext cx="1216800" cy="348840"/>
                </a:xfrm>
                <a:custGeom>
                  <a:avLst/>
                  <a:gdLst/>
                  <a:ahLst/>
                  <a:rect l="l" t="t" r="r" b="b"/>
                  <a:pathLst>
                    <a:path w="2341" h="585">
                      <a:moveTo>
                        <a:pt x="506" y="441"/>
                      </a:moveTo>
                      <a:cubicBezTo>
                        <a:pt x="440" y="458"/>
                        <a:pt x="346" y="507"/>
                        <a:pt x="274" y="515"/>
                      </a:cubicBezTo>
                      <a:cubicBezTo>
                        <a:pt x="202" y="523"/>
                        <a:pt x="117" y="510"/>
                        <a:pt x="72" y="486"/>
                      </a:cubicBezTo>
                      <a:cubicBezTo>
                        <a:pt x="27" y="462"/>
                        <a:pt x="10" y="417"/>
                        <a:pt x="5" y="373"/>
                      </a:cubicBezTo>
                      <a:cubicBezTo>
                        <a:pt x="0" y="329"/>
                        <a:pt x="8" y="271"/>
                        <a:pt x="43" y="224"/>
                      </a:cubicBezTo>
                      <a:cubicBezTo>
                        <a:pt x="78" y="177"/>
                        <a:pt x="143" y="118"/>
                        <a:pt x="215" y="89"/>
                      </a:cubicBezTo>
                      <a:cubicBezTo>
                        <a:pt x="287" y="60"/>
                        <a:pt x="390" y="55"/>
                        <a:pt x="476" y="52"/>
                      </a:cubicBezTo>
                      <a:cubicBezTo>
                        <a:pt x="562" y="49"/>
                        <a:pt x="629" y="77"/>
                        <a:pt x="731" y="74"/>
                      </a:cubicBezTo>
                      <a:cubicBezTo>
                        <a:pt x="833" y="71"/>
                        <a:pt x="984" y="48"/>
                        <a:pt x="1090" y="37"/>
                      </a:cubicBezTo>
                      <a:cubicBezTo>
                        <a:pt x="1196" y="26"/>
                        <a:pt x="1252" y="12"/>
                        <a:pt x="1367" y="7"/>
                      </a:cubicBezTo>
                      <a:cubicBezTo>
                        <a:pt x="1482" y="2"/>
                        <a:pt x="1639" y="0"/>
                        <a:pt x="1778" y="7"/>
                      </a:cubicBezTo>
                      <a:cubicBezTo>
                        <a:pt x="1917" y="14"/>
                        <a:pt x="2119" y="35"/>
                        <a:pt x="2204" y="52"/>
                      </a:cubicBezTo>
                      <a:cubicBezTo>
                        <a:pt x="2289" y="69"/>
                        <a:pt x="2266" y="79"/>
                        <a:pt x="2287" y="111"/>
                      </a:cubicBezTo>
                      <a:cubicBezTo>
                        <a:pt x="2308" y="143"/>
                        <a:pt x="2323" y="202"/>
                        <a:pt x="2332" y="246"/>
                      </a:cubicBezTo>
                      <a:cubicBezTo>
                        <a:pt x="2341" y="290"/>
                        <a:pt x="2340" y="338"/>
                        <a:pt x="2339" y="373"/>
                      </a:cubicBezTo>
                      <a:cubicBezTo>
                        <a:pt x="2338" y="408"/>
                        <a:pt x="2324" y="429"/>
                        <a:pt x="2324" y="456"/>
                      </a:cubicBezTo>
                      <a:cubicBezTo>
                        <a:pt x="2324" y="483"/>
                        <a:pt x="2341" y="517"/>
                        <a:pt x="2339" y="538"/>
                      </a:cubicBezTo>
                      <a:cubicBezTo>
                        <a:pt x="2337" y="559"/>
                        <a:pt x="2326" y="581"/>
                        <a:pt x="2309" y="583"/>
                      </a:cubicBezTo>
                      <a:cubicBezTo>
                        <a:pt x="2292" y="585"/>
                        <a:pt x="2275" y="569"/>
                        <a:pt x="2234" y="553"/>
                      </a:cubicBezTo>
                      <a:cubicBezTo>
                        <a:pt x="2193" y="537"/>
                        <a:pt x="2138" y="504"/>
                        <a:pt x="2062" y="486"/>
                      </a:cubicBezTo>
                      <a:cubicBezTo>
                        <a:pt x="1986" y="468"/>
                        <a:pt x="1853" y="454"/>
                        <a:pt x="1778" y="448"/>
                      </a:cubicBezTo>
                      <a:cubicBezTo>
                        <a:pt x="1703" y="442"/>
                        <a:pt x="1688" y="453"/>
                        <a:pt x="1613" y="448"/>
                      </a:cubicBezTo>
                      <a:cubicBezTo>
                        <a:pt x="1538" y="443"/>
                        <a:pt x="1399" y="424"/>
                        <a:pt x="1329" y="418"/>
                      </a:cubicBezTo>
                      <a:cubicBezTo>
                        <a:pt x="1259" y="412"/>
                        <a:pt x="1267" y="410"/>
                        <a:pt x="1195" y="411"/>
                      </a:cubicBezTo>
                      <a:cubicBezTo>
                        <a:pt x="1123" y="412"/>
                        <a:pt x="982" y="426"/>
                        <a:pt x="895" y="426"/>
                      </a:cubicBezTo>
                      <a:cubicBezTo>
                        <a:pt x="808" y="426"/>
                        <a:pt x="738" y="410"/>
                        <a:pt x="671" y="411"/>
                      </a:cubicBezTo>
                      <a:cubicBezTo>
                        <a:pt x="604" y="412"/>
                        <a:pt x="572" y="424"/>
                        <a:pt x="506" y="441"/>
                      </a:cubicBezTo>
                      <a:close/>
                    </a:path>
                  </a:pathLst>
                </a:custGeom>
                <a:solidFill>
                  <a:srgbClr val="cc9b1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" name=""/>
              <p:cNvSpPr/>
              <p:nvPr/>
            </p:nvSpPr>
            <p:spPr>
              <a:xfrm>
                <a:off x="3844080" y="3182400"/>
                <a:ext cx="466560" cy="236520"/>
              </a:xfrm>
              <a:custGeom>
                <a:avLst/>
                <a:gdLst/>
                <a:ahLst/>
                <a:rect l="l" t="t" r="r" b="b"/>
                <a:pathLst>
                  <a:path w="898" h="397">
                    <a:moveTo>
                      <a:pt x="247" y="397"/>
                    </a:moveTo>
                    <a:lnTo>
                      <a:pt x="239" y="269"/>
                    </a:lnTo>
                    <a:lnTo>
                      <a:pt x="142" y="307"/>
                    </a:lnTo>
                    <a:lnTo>
                      <a:pt x="0" y="299"/>
                    </a:lnTo>
                    <a:lnTo>
                      <a:pt x="120" y="262"/>
                    </a:lnTo>
                    <a:lnTo>
                      <a:pt x="224" y="202"/>
                    </a:lnTo>
                    <a:lnTo>
                      <a:pt x="209" y="67"/>
                    </a:lnTo>
                    <a:lnTo>
                      <a:pt x="232" y="0"/>
                    </a:lnTo>
                    <a:lnTo>
                      <a:pt x="292" y="90"/>
                    </a:lnTo>
                    <a:lnTo>
                      <a:pt x="314" y="187"/>
                    </a:lnTo>
                    <a:lnTo>
                      <a:pt x="486" y="135"/>
                    </a:lnTo>
                    <a:lnTo>
                      <a:pt x="651" y="112"/>
                    </a:lnTo>
                    <a:lnTo>
                      <a:pt x="898" y="82"/>
                    </a:lnTo>
                    <a:lnTo>
                      <a:pt x="748" y="150"/>
                    </a:lnTo>
                    <a:lnTo>
                      <a:pt x="464" y="187"/>
                    </a:lnTo>
                    <a:lnTo>
                      <a:pt x="314" y="232"/>
                    </a:lnTo>
                    <a:lnTo>
                      <a:pt x="322" y="374"/>
                    </a:lnTo>
                    <a:lnTo>
                      <a:pt x="247" y="397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4618080" y="3124080"/>
                <a:ext cx="81360" cy="200880"/>
              </a:xfrm>
              <a:custGeom>
                <a:avLst/>
                <a:gdLst/>
                <a:ahLst/>
                <a:rect l="l" t="t" r="r" b="b"/>
                <a:pathLst>
                  <a:path w="157" h="337">
                    <a:moveTo>
                      <a:pt x="90" y="8"/>
                    </a:moveTo>
                    <a:lnTo>
                      <a:pt x="157" y="195"/>
                    </a:lnTo>
                    <a:lnTo>
                      <a:pt x="142" y="337"/>
                    </a:lnTo>
                    <a:lnTo>
                      <a:pt x="0" y="0"/>
                    </a:lnTo>
                    <a:lnTo>
                      <a:pt x="90" y="8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594320" y="3156120"/>
                <a:ext cx="419760" cy="236160"/>
              </a:xfrm>
              <a:custGeom>
                <a:avLst/>
                <a:gdLst/>
                <a:ahLst/>
                <a:rect l="l" t="t" r="r" b="b"/>
                <a:pathLst>
                  <a:path w="808" h="396">
                    <a:moveTo>
                      <a:pt x="0" y="366"/>
                    </a:moveTo>
                    <a:lnTo>
                      <a:pt x="105" y="366"/>
                    </a:lnTo>
                    <a:lnTo>
                      <a:pt x="255" y="306"/>
                    </a:lnTo>
                    <a:lnTo>
                      <a:pt x="471" y="112"/>
                    </a:lnTo>
                    <a:lnTo>
                      <a:pt x="307" y="67"/>
                    </a:lnTo>
                    <a:lnTo>
                      <a:pt x="232" y="22"/>
                    </a:lnTo>
                    <a:lnTo>
                      <a:pt x="352" y="22"/>
                    </a:lnTo>
                    <a:lnTo>
                      <a:pt x="524" y="74"/>
                    </a:lnTo>
                    <a:lnTo>
                      <a:pt x="621" y="0"/>
                    </a:lnTo>
                    <a:lnTo>
                      <a:pt x="681" y="0"/>
                    </a:lnTo>
                    <a:lnTo>
                      <a:pt x="576" y="82"/>
                    </a:lnTo>
                    <a:lnTo>
                      <a:pt x="801" y="134"/>
                    </a:lnTo>
                    <a:lnTo>
                      <a:pt x="808" y="209"/>
                    </a:lnTo>
                    <a:lnTo>
                      <a:pt x="516" y="134"/>
                    </a:lnTo>
                    <a:lnTo>
                      <a:pt x="344" y="291"/>
                    </a:lnTo>
                    <a:lnTo>
                      <a:pt x="277" y="344"/>
                    </a:lnTo>
                    <a:lnTo>
                      <a:pt x="157" y="396"/>
                    </a:lnTo>
                    <a:lnTo>
                      <a:pt x="0" y="366"/>
                    </a:lnTo>
                    <a:close/>
                  </a:path>
                </a:pathLst>
              </a:custGeom>
              <a:solidFill>
                <a:srgbClr val="f8cb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E858E-AE33-438A-A829-0A5D44F4F6D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80000"/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0000"/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netcamp.prn.bc.ca/nuggets/heatingcurve.swf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mailto:tammymims@gaston.k12.nc.us" TargetMode="External"/><Relationship Id="rId4" Type="http://schemas.openxmlformats.org/officeDocument/2006/relationships/image" Target="../media/image2.png"/><Relationship Id="rId5" Type="http://schemas.openxmlformats.org/officeDocument/2006/relationships/hyperlink" Target="mailto:rmiller@gaston.k12.nc.us" TargetMode="Externa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www.howstuffworks.com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3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AIM-8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8</a:t>
            </a:r>
            <a:r>
              <a:rPr b="1" lang="en-US" sz="44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 Grade Science Professional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ursday, September 11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oal 4:  Chemist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2:  Evaluate evidence that elements combine in multiple ways to produce compounds that account for living and nonliving substanc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5138640"/>
        </p:xfrm>
        <a:graphic>
          <a:graphicData uri="http://schemas.openxmlformats.org/drawingml/2006/table">
            <a:tbl>
              <a:tblPr/>
              <a:tblGrid>
                <a:gridCol w="4062240"/>
                <a:gridCol w="4167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EL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% OF HUMAN BO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Oxy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65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arb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8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Hydro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0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Nitrog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3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alc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2.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Phosphoro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1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Potass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.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ulf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hlor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odiu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.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Iod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Trace Elem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Under 0.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ements combine in many different ways to form thousands of different chemica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perties depend upon the elements, numbers of atoms, and types of chemical bon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me chemicals are helpful and some are harmful, depending on properties and dosag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990360" y="2743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2:  Evaluate evidence that elements combine in multiple ways to produce compounds that account for living and nonliving substanc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360" y="2743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3:  Explain how the periodic table is a model for classifying elements and identifying the properties of ele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eriodic table is a MAP  of the ele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rganization and trends communicate basic information about the elemen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ubstance’s atomic structure determines its physical and chemical properties – and suitability for use in desig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2743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4:  Describe the suitability of materials for use in technological desig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nk-Pair-Share:  Answer the following question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can’t you build a house out of sugar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are structures made of iron painte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don’t we use helium in electrical wiring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*** Properties of materials determine whether they will function in a desig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f83bd"/>
                </a:solidFill>
                <a:uFillTx/>
                <a:latin typeface="Comic Sans MS"/>
                <a:hlinkClick r:id="rId3"/>
              </a:rPr>
              <a:t>Heating curve of wat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perties of matter may be either physical or chemic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Physical – freezing, melting, boil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ter can undergo physical changes which affect only physical propert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4.05:  Identify substances based on characteristic physical propert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4.05:  Identify substances based on characteristic physical propert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133720" y="1600200"/>
            <a:ext cx="54100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6:  Describe and measure quantities related to chemical and physical changes within a syst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t a piece of warhead can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st the physical properties of the can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dict the chemical properties of the can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t the cand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evidence of a chemical chang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idence of a chemical change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gas produc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bubb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od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precipit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change in tempera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release of ligh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 change in col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6:  Describe and measure quantities related to chemical and physical changes within a syst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4.07:  Identify evidence supporting the law of conservation of mat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 Atoms   =  # Ato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ctants  &gt;&gt;&gt;   Produ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uminium + Oxygen  &gt;&gt;&gt;  Aluminium Oxide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 + 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&gt;&gt;&gt;  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 +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&gt;&gt;&gt; 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efficien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bscrip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"/>
          <p:cNvSpPr/>
          <p:nvPr/>
        </p:nvSpPr>
        <p:spPr>
          <a:xfrm rot="12395400">
            <a:off x="7009920" y="4800600"/>
            <a:ext cx="990720" cy="457200"/>
          </a:xfrm>
          <a:custGeom>
            <a:avLst/>
            <a:gdLst>
              <a:gd name="textAreaLeft" fmla="*/ 173160 w 990720"/>
              <a:gd name="textAreaRight" fmla="*/ 718200 w 99072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 rot="9306600">
            <a:off x="1801080" y="4571280"/>
            <a:ext cx="1170000" cy="539640"/>
          </a:xfrm>
          <a:custGeom>
            <a:avLst/>
            <a:gdLst>
              <a:gd name="textAreaLeft" fmla="*/ 204480 w 1170000"/>
              <a:gd name="textAreaRight" fmla="*/ 848160 w 1170000"/>
              <a:gd name="textAreaTop" fmla="*/ 72000 h 539640"/>
              <a:gd name="textAreaBottom" fmla="*/ 46764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1051830"/>
                <a:lnTo>
                  <a:pt x="19105" y="16035"/>
                </a:lnTo>
                <a:lnTo>
                  <a:pt x="17280" y="0"/>
                </a:lnTo>
                <a:lnTo>
                  <a:pt x="10465" y="16035"/>
                </a:lnTo>
                <a:lnTo>
                  <a:pt x="12625" y="16035"/>
                </a:lnTo>
                <a:arcTo wR="7560" hR="21600" stAng="4348170" swAng="694395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cc9b1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inegar and Baking Soda Reactio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nthesis Rea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composition Rea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ngle Replacement Rea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ouble Replacement Reacti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7:  Identify evidence supporting the law of conservation of mat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assroom Technolo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mart Board, Laptop, Projector, Classroom Response System, Airliner, Document Camer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Ordered September 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Shipped September 17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Arrival September 2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Installed September 30 ***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tter can neither be created nor destroyed but can be changed from one form to anoth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otal mass of reactants equals total mass of produ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mical reactions alter arrangements of atoms by breaking and making new chemical bond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4.07:  Identify evidence supporting the law of conservation of mat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8: Chemicals affect human health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9:  Factors that determine effects of chemicals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10:  Risks and benefits of chemic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IGSAW:  Two groups per tab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1 Read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 Case Study #1 in “Chemicals…”, p. Master 1.5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Poison: Safety is No Accident in “Breakthroughs…”, p. 14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roup 2 Rea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 Case Study #3 in “Chemicals…”, p. Master 1.5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Chemicals that Cause Disease in “Breakthroughs…”, p. 148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Master 1.4 when reading the Case Stud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nswer two additional question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1.  How does each article apply to the NCSCOS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  How would you extend this activity?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of Reading in the Content Are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 of a non-textbook resour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chemical is toxic if it produces adverse effects in a living organism at levels of exposure that are likely to occur causing sick symptom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oth naturally occurring and synthetic chemicals can have detrimental effects on human health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micals can enter the body through ingestion, inhalation, and absorpti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ffect of a chemical on the body depends on dose, concentration, length of exposure, and route of exposu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mistry is important in all functions of daily lif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8: Chemicals affect human health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9:  Factors that determine effects of chemicals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10:  Risks and benefits of chemic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8: Chemicals affect human health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09:  Factors that determine effects of chemicals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4.10:  Risks and benefits of chemica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btain products from middle of t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one food product and one oth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st the physical properties of this produ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dict the chemical properties of this produc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do you think this product is helpful? harmfu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ingredients might the product contain that would be considered additives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do the warning labels say on the produc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could you find out more information on this product, its uses, and the risks or benefits of the produc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los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tional Professional Development Dat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nday, October 2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 3:  Hydrosphe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esday, February 1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 5:  Evolutionary Chan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esday, March 1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 6:  Cell Theo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oal 7:  Microbiolog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Concerns and 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mmy Mims (Science Instruction and Suppli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9f83bd"/>
                </a:solidFill>
                <a:uFillTx/>
                <a:latin typeface="Comic Sans MS"/>
                <a:hlinkClick r:id="rId3"/>
              </a:rPr>
              <a:t>tammymims@gaston.k12.nc.u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xie Miller (Instructional Technolog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 u="sng">
                <a:solidFill>
                  <a:srgbClr val="9f83bd"/>
                </a:solidFill>
                <a:uFillTx/>
                <a:latin typeface="Comic Sans MS"/>
                <a:hlinkClick r:id="rId5"/>
              </a:rPr>
              <a:t>rmiller@gaston.k12.nc.u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chool –Based Technical Support (Instructional Technolog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ease take a few minutes to complete the Workshop Evaluation For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will get credit for all four sess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 will be notified once the workshop is available for registra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Laboratory Resources and Equipment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erni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Ordered September 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Shipped October 2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Distribution and Training October 27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sher Scientif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Ordered September 1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Shipped September 26 ***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Arrival October 10 ***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 Will arrive in one teachers name;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grade science teachers will have to count and sor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Today’s Agenda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Comic Sans MS"/>
              </a:rPr>
              <a:t>Goal 4: Chemistry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:00 – 8:30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lcome and Introdu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8:30 – 11:3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lta Edu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ter and Change” Ki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1:30 – 12:3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UNCH  (on your own!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2:30 – 2:45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urriculum Reinforc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sources and Activ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:45 – 3:00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aluation and Clos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mistry Scavenger Hu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5-10 items within the next 15 minut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side each number, identify the SCOS objective under Goal 4 that would correlate to that item / tas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hemistry Scavenger Hu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 of long term project or portfoli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ir up and answer the following question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  How does this activity apply to the NCSCO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  What did you really like about this activity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  What would you change about this activity if you used it with your students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  How would the design of a portfolio allow students to apply Goal 4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3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1:  Understand that both naturally occurring and synthetic substances are chemica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efine these four terms: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hemica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tom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lemen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o the terms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synthetic, toxic, nontoxic, naturally occurring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extend the meaning of these term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Chemical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– any substance having a defined molecular composi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Atom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– A unit of matter, the smallest unit of an element, having all the characteristics of that element and consisting of a dense, central, positively charged nucleus surrounded by a system of electrons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Element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– a form of matter that cannot be broken down into simpler substances; elements exist in nature as solids, liquids and gase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SzPct val="1496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Compound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- a pure substance composed of two or more elements whose composition is consta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f83bd"/>
                </a:solidFill>
                <a:uFillTx/>
                <a:latin typeface="Comic Sans MS"/>
                <a:hlinkClick r:id="rId3"/>
              </a:rPr>
              <a:t>“Everything is Made of Chemicals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o the following substances satisfy the definition of a chemical? compoun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Water (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Sugar (C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2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  Salt (NaCl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91404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4.01:  Understand that both naturally occurring and synthetic substances are chemical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3:39:48Z</dcterms:created>
  <dc:creator>tammy</dc:creator>
  <dc:description/>
  <dc:language>en-US</dc:language>
  <cp:lastModifiedBy>Gaston</cp:lastModifiedBy>
  <dcterms:modified xsi:type="dcterms:W3CDTF">2008-09-17T16:58:10Z</dcterms:modified>
  <cp:revision>2</cp:revision>
  <dc:subject/>
  <dc:title>AIM-8 8th Grade Science Professional Development</dc:title>
</cp:coreProperties>
</file>