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A26-DB64-4032-B21F-8A4A47CC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152-F807-4370-BD45-D92C328D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062-FA01-4328-990E-553FE230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CC8-1694-43BC-B567-850DDCC5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BA1D-55A9-4A3D-8754-C424F3A5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C124-72BB-42C7-A783-1EB58713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55FC-360B-471B-9B95-390921C1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F74A-2FCE-42DD-BB9F-3A83DBF2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771C-9575-4183-8AEB-0CCE3E5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29E4-B063-4DF8-BEFE-0F0C70F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957B-4DDD-413C-B4DA-AB11300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3C1-9FAC-4530-95D3-E6901BDA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8B9A-6BE2-4240-A60F-9F2B85E0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1FE4-0681-49A6-9F17-86BB0746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F67-916A-416E-9370-D19EEB19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3974-3E41-45AC-9115-9EEE4CA2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E75F-B028-4658-BC08-3F31B29C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634-CF79-4164-AB86-BA7A7AFD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98A-0D8C-4B86-9AB9-8839FD1D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99F-B757-4CA5-93BE-FAD95711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B09-DF43-48C2-8D30-80D479C7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2A2-8168-4701-8AE7-02121791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E80-2BC2-4A12-97DA-CCC4223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3F1-420F-474E-B771-F4EC7A7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6899400" cy="6400800"/>
            <a:chOff x="0" y="152280"/>
            <a:chExt cx="6899400" cy="6400800"/>
          </a:xfrm>
        </p:grpSpPr>
        <p:sp>
          <p:nvSpPr>
            <p:cNvPr id="1" name=""/>
            <p:cNvSpPr/>
            <p:nvPr/>
          </p:nvSpPr>
          <p:spPr>
            <a:xfrm>
              <a:off x="0" y="1666800"/>
              <a:ext cx="6899400" cy="171360"/>
            </a:xfrm>
            <a:custGeom>
              <a:avLst/>
              <a:gdLst/>
              <a:ahLst/>
              <a:rect l="l" t="t" r="r" b="b"/>
              <a:pathLst>
                <a:path w="4346" h="108">
                  <a:moveTo>
                    <a:pt x="3477" y="10"/>
                  </a:moveTo>
                  <a:cubicBezTo>
                    <a:pt x="3680" y="12"/>
                    <a:pt x="3921" y="14"/>
                    <a:pt x="4057" y="17"/>
                  </a:cubicBezTo>
                  <a:cubicBezTo>
                    <a:pt x="4192" y="20"/>
                    <a:pt x="4253" y="24"/>
                    <a:pt x="4293" y="30"/>
                  </a:cubicBezTo>
                  <a:cubicBezTo>
                    <a:pt x="4333" y="36"/>
                    <a:pt x="4286" y="43"/>
                    <a:pt x="4293" y="50"/>
                  </a:cubicBezTo>
                  <a:cubicBezTo>
                    <a:pt x="4300" y="57"/>
                    <a:pt x="4328" y="67"/>
                    <a:pt x="4329" y="73"/>
                  </a:cubicBezTo>
                  <a:cubicBezTo>
                    <a:pt x="4331" y="80"/>
                    <a:pt x="4346" y="85"/>
                    <a:pt x="4305" y="89"/>
                  </a:cubicBezTo>
                  <a:cubicBezTo>
                    <a:pt x="4263" y="93"/>
                    <a:pt x="4186" y="97"/>
                    <a:pt x="4082" y="99"/>
                  </a:cubicBezTo>
                  <a:cubicBezTo>
                    <a:pt x="3977" y="100"/>
                    <a:pt x="3834" y="99"/>
                    <a:pt x="3675" y="99"/>
                  </a:cubicBezTo>
                  <a:cubicBezTo>
                    <a:pt x="3516" y="98"/>
                    <a:pt x="3341" y="95"/>
                    <a:pt x="3129" y="94"/>
                  </a:cubicBezTo>
                  <a:cubicBezTo>
                    <a:pt x="2918" y="93"/>
                    <a:pt x="2634" y="94"/>
                    <a:pt x="2401" y="94"/>
                  </a:cubicBezTo>
                  <a:cubicBezTo>
                    <a:pt x="2168" y="95"/>
                    <a:pt x="2024" y="97"/>
                    <a:pt x="1733" y="98"/>
                  </a:cubicBezTo>
                  <a:cubicBezTo>
                    <a:pt x="1442" y="99"/>
                    <a:pt x="946" y="103"/>
                    <a:pt x="657" y="102"/>
                  </a:cubicBezTo>
                  <a:cubicBezTo>
                    <a:pt x="368" y="101"/>
                    <a:pt x="110" y="108"/>
                    <a:pt x="1" y="93"/>
                  </a:cubicBezTo>
                  <a:lnTo>
                    <a:pt x="0" y="13"/>
                  </a:lnTo>
                  <a:cubicBezTo>
                    <a:pt x="109" y="0"/>
                    <a:pt x="432" y="13"/>
                    <a:pt x="657" y="12"/>
                  </a:cubicBezTo>
                  <a:cubicBezTo>
                    <a:pt x="882" y="11"/>
                    <a:pt x="1082" y="7"/>
                    <a:pt x="1349" y="7"/>
                  </a:cubicBezTo>
                  <a:cubicBezTo>
                    <a:pt x="1617" y="6"/>
                    <a:pt x="2017" y="8"/>
                    <a:pt x="2265" y="9"/>
                  </a:cubicBezTo>
                  <a:cubicBezTo>
                    <a:pt x="2513" y="9"/>
                    <a:pt x="2634" y="9"/>
                    <a:pt x="2834" y="8"/>
                  </a:cubicBezTo>
                  <a:cubicBezTo>
                    <a:pt x="3034" y="9"/>
                    <a:pt x="3273" y="9"/>
                    <a:pt x="3477" y="10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8360" y="152280"/>
              <a:ext cx="716040" cy="6400800"/>
            </a:xfrm>
            <a:custGeom>
              <a:avLst/>
              <a:gdLst/>
              <a:ahLst/>
              <a:rect l="l" t="t" r="r" b="b"/>
              <a:pathLst>
                <a:path w="883" h="4115">
                  <a:moveTo>
                    <a:pt x="86" y="3201"/>
                  </a:moveTo>
                  <a:cubicBezTo>
                    <a:pt x="89" y="3056"/>
                    <a:pt x="83" y="2912"/>
                    <a:pt x="79" y="2730"/>
                  </a:cubicBezTo>
                  <a:cubicBezTo>
                    <a:pt x="75" y="2548"/>
                    <a:pt x="60" y="2270"/>
                    <a:pt x="64" y="2109"/>
                  </a:cubicBezTo>
                  <a:cubicBezTo>
                    <a:pt x="68" y="1948"/>
                    <a:pt x="99" y="1927"/>
                    <a:pt x="101" y="1765"/>
                  </a:cubicBezTo>
                  <a:cubicBezTo>
                    <a:pt x="103" y="1603"/>
                    <a:pt x="90" y="1323"/>
                    <a:pt x="79" y="1137"/>
                  </a:cubicBezTo>
                  <a:cubicBezTo>
                    <a:pt x="68" y="951"/>
                    <a:pt x="44" y="793"/>
                    <a:pt x="34" y="651"/>
                  </a:cubicBezTo>
                  <a:cubicBezTo>
                    <a:pt x="24" y="509"/>
                    <a:pt x="17" y="385"/>
                    <a:pt x="19" y="284"/>
                  </a:cubicBezTo>
                  <a:cubicBezTo>
                    <a:pt x="21" y="183"/>
                    <a:pt x="32" y="90"/>
                    <a:pt x="49" y="45"/>
                  </a:cubicBezTo>
                  <a:cubicBezTo>
                    <a:pt x="66" y="0"/>
                    <a:pt x="91" y="16"/>
                    <a:pt x="123" y="15"/>
                  </a:cubicBezTo>
                  <a:cubicBezTo>
                    <a:pt x="155" y="14"/>
                    <a:pt x="204" y="37"/>
                    <a:pt x="243" y="37"/>
                  </a:cubicBezTo>
                  <a:cubicBezTo>
                    <a:pt x="282" y="37"/>
                    <a:pt x="310" y="20"/>
                    <a:pt x="355" y="15"/>
                  </a:cubicBezTo>
                  <a:cubicBezTo>
                    <a:pt x="400" y="10"/>
                    <a:pt x="453" y="0"/>
                    <a:pt x="512" y="7"/>
                  </a:cubicBezTo>
                  <a:cubicBezTo>
                    <a:pt x="571" y="14"/>
                    <a:pt x="659" y="37"/>
                    <a:pt x="707" y="60"/>
                  </a:cubicBezTo>
                  <a:cubicBezTo>
                    <a:pt x="755" y="83"/>
                    <a:pt x="783" y="99"/>
                    <a:pt x="797" y="142"/>
                  </a:cubicBezTo>
                  <a:cubicBezTo>
                    <a:pt x="811" y="185"/>
                    <a:pt x="788" y="235"/>
                    <a:pt x="789" y="321"/>
                  </a:cubicBezTo>
                  <a:cubicBezTo>
                    <a:pt x="790" y="407"/>
                    <a:pt x="794" y="537"/>
                    <a:pt x="804" y="658"/>
                  </a:cubicBezTo>
                  <a:cubicBezTo>
                    <a:pt x="814" y="779"/>
                    <a:pt x="844" y="892"/>
                    <a:pt x="849" y="1047"/>
                  </a:cubicBezTo>
                  <a:cubicBezTo>
                    <a:pt x="854" y="1202"/>
                    <a:pt x="840" y="1394"/>
                    <a:pt x="834" y="1586"/>
                  </a:cubicBezTo>
                  <a:cubicBezTo>
                    <a:pt x="828" y="1778"/>
                    <a:pt x="805" y="1995"/>
                    <a:pt x="812" y="2199"/>
                  </a:cubicBezTo>
                  <a:cubicBezTo>
                    <a:pt x="819" y="2403"/>
                    <a:pt x="875" y="2624"/>
                    <a:pt x="879" y="2812"/>
                  </a:cubicBezTo>
                  <a:cubicBezTo>
                    <a:pt x="883" y="3000"/>
                    <a:pt x="840" y="3138"/>
                    <a:pt x="834" y="3329"/>
                  </a:cubicBezTo>
                  <a:cubicBezTo>
                    <a:pt x="828" y="3520"/>
                    <a:pt x="848" y="3836"/>
                    <a:pt x="842" y="3957"/>
                  </a:cubicBezTo>
                  <a:cubicBezTo>
                    <a:pt x="836" y="4078"/>
                    <a:pt x="833" y="4033"/>
                    <a:pt x="797" y="4054"/>
                  </a:cubicBezTo>
                  <a:cubicBezTo>
                    <a:pt x="761" y="4075"/>
                    <a:pt x="686" y="4086"/>
                    <a:pt x="625" y="4084"/>
                  </a:cubicBezTo>
                  <a:cubicBezTo>
                    <a:pt x="564" y="4082"/>
                    <a:pt x="492" y="4041"/>
                    <a:pt x="430" y="4039"/>
                  </a:cubicBezTo>
                  <a:cubicBezTo>
                    <a:pt x="368" y="4037"/>
                    <a:pt x="302" y="4057"/>
                    <a:pt x="251" y="4069"/>
                  </a:cubicBezTo>
                  <a:cubicBezTo>
                    <a:pt x="200" y="4081"/>
                    <a:pt x="162" y="4115"/>
                    <a:pt x="123" y="4114"/>
                  </a:cubicBezTo>
                  <a:cubicBezTo>
                    <a:pt x="84" y="4113"/>
                    <a:pt x="38" y="4102"/>
                    <a:pt x="19" y="4062"/>
                  </a:cubicBezTo>
                  <a:cubicBezTo>
                    <a:pt x="0" y="4022"/>
                    <a:pt x="3" y="3952"/>
                    <a:pt x="11" y="3875"/>
                  </a:cubicBezTo>
                  <a:cubicBezTo>
                    <a:pt x="19" y="3798"/>
                    <a:pt x="51" y="3710"/>
                    <a:pt x="64" y="3598"/>
                  </a:cubicBezTo>
                  <a:cubicBezTo>
                    <a:pt x="77" y="3486"/>
                    <a:pt x="83" y="3346"/>
                    <a:pt x="86" y="3201"/>
                  </a:cubicBezTo>
                  <a:close/>
                </a:path>
              </a:pathLst>
            </a:custGeom>
            <a:solidFill>
              <a:srgbClr val="9f83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09480" y="1295280"/>
              <a:ext cx="152640" cy="914400"/>
            </a:xfrm>
            <a:custGeom>
              <a:avLst/>
              <a:gdLst/>
              <a:ahLst/>
              <a:rect l="l" t="t" r="r" b="b"/>
              <a:pathLst>
                <a:path w="110" h="842">
                  <a:moveTo>
                    <a:pt x="92" y="0"/>
                  </a:moveTo>
                  <a:lnTo>
                    <a:pt x="81" y="170"/>
                  </a:lnTo>
                  <a:lnTo>
                    <a:pt x="51" y="362"/>
                  </a:lnTo>
                  <a:lnTo>
                    <a:pt x="74" y="539"/>
                  </a:lnTo>
                  <a:lnTo>
                    <a:pt x="88" y="709"/>
                  </a:lnTo>
                  <a:lnTo>
                    <a:pt x="110" y="842"/>
                  </a:lnTo>
                  <a:lnTo>
                    <a:pt x="81" y="768"/>
                  </a:lnTo>
                  <a:lnTo>
                    <a:pt x="59" y="716"/>
                  </a:lnTo>
                  <a:lnTo>
                    <a:pt x="29" y="598"/>
                  </a:lnTo>
                  <a:lnTo>
                    <a:pt x="0" y="414"/>
                  </a:lnTo>
                  <a:lnTo>
                    <a:pt x="22" y="251"/>
                  </a:lnTo>
                  <a:lnTo>
                    <a:pt x="51" y="8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B33A-897C-4E30-960E-88632480101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EF63-B19A-4F9D-8A5F-873F4E373B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netcamp.prn.bc.ca/nuggets/heatingcurve.sw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tammymims@gaston.k12.nc.us" TargetMode="External"/><Relationship Id="rId4" Type="http://schemas.openxmlformats.org/officeDocument/2006/relationships/image" Target="../media/image2.png"/><Relationship Id="rId5" Type="http://schemas.openxmlformats.org/officeDocument/2006/relationships/hyperlink" Target="mailto:rmiller@gaston.k12.nc.us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owstuffwork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IM-8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Grade Science Profession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, September 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4:  Chemist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2:  Evaluate evidence that elements combine in multiple ways to produce compounds that account for living and nonliving subst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5138640"/>
        </p:xfrm>
        <a:graphic>
          <a:graphicData uri="http://schemas.openxmlformats.org/drawingml/2006/table">
            <a:tbl>
              <a:tblPr/>
              <a:tblGrid>
                <a:gridCol w="4062240"/>
                <a:gridCol w="416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% OF HUMAN 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alc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hosphor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otas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ulf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hlo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o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od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race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nder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ombine in many different ways to form thousands of different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erties depend upon the elements, numbers of atoms, and types of chemical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chemicals are helpful and some are harmful, depending on properties and dos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2:  Evaluate evidence that elements combine in multiple ways to produce compounds that account for living and nonliving substan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3:  Explain how the periodic table is a model for classifying elements and identifying the properties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iodic table is a MAP  of the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ation and trends communicate basic information about the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bstance’s atomic structure determines its physical and chemical properties – and suitability for use in de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4:  Describe the suitability of materials for use in technological de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-Pair-Share:  Answer the following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can’t you build a house out of suga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are structures made of iron pain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n’t we use helium in electrical wir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* Properties of materials determine whether they will function in a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Heating curve of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matter may be either physical or chemic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hysical – freezing, melting, boi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er can undergo physical changes which affect only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5:  Identify substances based on characteristic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5:  Identify substances based on characteristic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5410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6:  Describe and measure quantities related to chemical and physical changes within a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a piece of warhead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the physical properties of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 the chemical properties of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t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evidence of a chemical chang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idence of a chemical change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gas p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bubb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o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precipi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hange in temper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release of l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hange in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6:  Describe and measure quantities related to chemical and physical changes within a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Atoms   =  # Ato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ants  &gt;&gt;&gt;  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+ Oxygen  &gt;&gt;&gt;  Aluminium Oxi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&gt;&gt;&gt; 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+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&gt;&gt;&gt;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scri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 rot="12395400">
            <a:off x="7009920" y="480060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9306600">
            <a:off x="1801080" y="4571280"/>
            <a:ext cx="1170000" cy="539640"/>
          </a:xfrm>
          <a:custGeom>
            <a:avLst/>
            <a:gdLst>
              <a:gd name="textAreaLeft" fmla="*/ 204480 w 1170000"/>
              <a:gd name="textAreaRight" fmla="*/ 848160 w 1170000"/>
              <a:gd name="textAreaTop" fmla="*/ 72000 h 539640"/>
              <a:gd name="textAreaBottom" fmla="*/ 46764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051830"/>
                <a:lnTo>
                  <a:pt x="19105" y="16035"/>
                </a:lnTo>
                <a:lnTo>
                  <a:pt x="17280" y="0"/>
                </a:lnTo>
                <a:lnTo>
                  <a:pt x="10465" y="16035"/>
                </a:lnTo>
                <a:lnTo>
                  <a:pt x="12625" y="16035"/>
                </a:lnTo>
                <a:arcTo wR="7560" hR="21600" stAng="4348170" swAng="69439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negar and Baking Soda Re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hesis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omposition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le Replacement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uble Replacement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Tech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art Board, Laptop, Projector, Classroom Response System, Airliner, Document Came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Ordered September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hipped September 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Arrival September 2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Installed September 30 **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er can neither be created nor destroyed but can be changed from one form to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mass of reactants equals total mass of 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cal reactions alter arrangements of atoms by breaking and making new chemical bo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IGSAW:  Two groups per 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1 Re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Case Study #1 in “Chemicals…”, p. Master 1.5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oison: Safety is No Accident in “Breakthroughs…”, p. 14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2 R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Case Study #3 in “Chemicals…”, p. Master 1.5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Chemicals that Cause Disease in “Breakthroughs…”, p. 14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aster 1.4 when reading the Case Stud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wo additional ques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How does each article apply to the NCSC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 How would you extend this activit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of Reading in the Content Ar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of a non-textbook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hemical is toxic if it produces adverse effects in a living organism at levels of exposure that are likely to occur causing sick sympto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naturally occurring and synthetic chemicals can have detrimental effects on human healt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micals can enter the body through ingestion, inhalation, and absor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 of a chemical on the body depends on dose, concentration, length of exposure, and route of exposu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mistry is important in all functions of daily lif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 products from middle of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ne food product and one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he physical properties of this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t the chemical properties of this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you think this product is helpful? harmfu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ngredients might the product contain that would be considered additiv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 the warning labels say on the produc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ould you find out more information on this product, its uses, and the risks or benefits of the produc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Professional Development Da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day, October 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3:  Hydrosp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esday, February 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5:  Evolutionary 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esday, March 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6:  Cell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7:  Microbi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ncerns and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my Mims (Science Instruction and Suppli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tammymims@gaston.k12.nc.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xie Miller (Instructional Technolog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5"/>
              </a:rPr>
              <a:t>rmiller@gaston.k12.nc.u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–Based Technical Support (Instructional Technolog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take a few minutes to complete the Workshop Evaluation Fo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get credit for all four sess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be notified once the workshop is available for regist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aboratory Resources and Equip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n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Ordered September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Shipped October 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Distribution and Training October 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er Scient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Ordered September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Shipped September 26 *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Arrival October 10 *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Will arrive in one teachers name;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ade science teachers will have to count and s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oday’s Agenda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Goal 4: Chemist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:00 – 8:30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come and Introd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:30 – 11:3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ta Edu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and Change” K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:30 – 12:3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NCH  (on your own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:30 – 2:4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Reinforc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s and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45 – 3: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on and Clo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mistry Scavenger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5-10 items within the next 15 min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side each number, identify the SCOS objective under Goal 4 that would correlate to that item / tas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mistry Scavenger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long term project or portfol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 up and answer the following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 How does this activity apply to the NCSC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What did you really like about this activ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What would you change about this activity if you used it with your stud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How would the design of a portfolio allow students to apply Goal 4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1:  Understand that both naturally occurring and synthetic substances are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these four terms: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emic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the term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ynthetic, toxic, nontoxic, naturally occur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xtend the meaning of these term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hemic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ny substance having a defined molecular composi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Ato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 unit of matter, the smallest unit of an element, having all the characteristics of that element and consisting of a dense, central, positively charged nucleus surrounded by a system of electr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 form of matter that cannot be broken down into simpler substances; elements exist in nature as solids, liquids and ga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ompoun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- a pure substance composed of two or more elements whose composition is consta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“Everything is Made of Chemical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the following substances satisfy the definition of a chemical? comp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Water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ugar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alt (NaC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1:  Understand that both naturally occurring and synthetic substances are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3:39:48Z</dcterms:created>
  <dc:creator>tammy</dc:creator>
  <dc:description/>
  <dc:language>en-US</dc:language>
  <cp:lastModifiedBy>Gaston</cp:lastModifiedBy>
  <dcterms:modified xsi:type="dcterms:W3CDTF">2008-09-17T16:58:10Z</dcterms:modified>
  <cp:revision>2</cp:revision>
  <dc:subject/>
  <dc:title>AIM-8 8th Grade Science Professional Development</dc:title>
</cp:coreProperties>
</file>