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4F00-0D7C-4AEE-ADD1-2D341F57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79D5-9F06-4FF1-8B09-DE35D251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55B9-D6E8-4FED-A4B7-6ABC43A0E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E0C7-E392-4C06-BE8A-1E0678D7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B50FD-F27B-4990-B8FC-23BFC27C6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78787-C403-4C9C-A8A5-5D091F29D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0613-3F28-4A53-9063-A435E1E9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BB7A2-FAE6-44BA-AE0F-1D2DB3FEE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C0AB-3B22-479E-9BB9-5741C6D00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541F-965C-4368-B149-0FD365CAE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F9A0-62DC-429E-B3F4-554D724C4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944E-A0FE-4AC1-ACAF-4C5DA7069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7048-8586-4624-862A-DC11A5134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0A5C3-9336-47C7-9383-4A8E98A6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BFE1-579A-405F-A5E2-48D544328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3C4D5-13F2-4497-8932-C7E59867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6768C-8D1D-42EE-BB42-2D78AC640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677C-5158-4FA3-9093-E106704A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5C59-090A-4740-B633-930819C3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6A8B-6549-4927-97AC-1873E1E9E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C8CC-9E08-4947-828B-E51D09B87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BF8B-693C-4474-A619-BA25D8811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865F-F82B-4580-8700-6A56AF48B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D3E4-B40D-49F8-A962-87E9BB90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6899400" cy="6400800"/>
            <a:chOff x="0" y="152280"/>
            <a:chExt cx="6899400" cy="6400800"/>
          </a:xfrm>
        </p:grpSpPr>
        <p:sp>
          <p:nvSpPr>
            <p:cNvPr id="1" name=""/>
            <p:cNvSpPr/>
            <p:nvPr/>
          </p:nvSpPr>
          <p:spPr>
            <a:xfrm>
              <a:off x="0" y="1666800"/>
              <a:ext cx="6899400" cy="171360"/>
            </a:xfrm>
            <a:custGeom>
              <a:avLst/>
              <a:gdLst/>
              <a:ahLst/>
              <a:rect l="l" t="t" r="r" b="b"/>
              <a:pathLst>
                <a:path w="4346" h="108">
                  <a:moveTo>
                    <a:pt x="3477" y="10"/>
                  </a:moveTo>
                  <a:cubicBezTo>
                    <a:pt x="3680" y="12"/>
                    <a:pt x="3921" y="14"/>
                    <a:pt x="4057" y="17"/>
                  </a:cubicBezTo>
                  <a:cubicBezTo>
                    <a:pt x="4192" y="20"/>
                    <a:pt x="4253" y="24"/>
                    <a:pt x="4293" y="30"/>
                  </a:cubicBezTo>
                  <a:cubicBezTo>
                    <a:pt x="4333" y="36"/>
                    <a:pt x="4286" y="43"/>
                    <a:pt x="4293" y="50"/>
                  </a:cubicBezTo>
                  <a:cubicBezTo>
                    <a:pt x="4300" y="57"/>
                    <a:pt x="4328" y="67"/>
                    <a:pt x="4329" y="73"/>
                  </a:cubicBezTo>
                  <a:cubicBezTo>
                    <a:pt x="4331" y="80"/>
                    <a:pt x="4346" y="85"/>
                    <a:pt x="4305" y="89"/>
                  </a:cubicBezTo>
                  <a:cubicBezTo>
                    <a:pt x="4263" y="93"/>
                    <a:pt x="4186" y="97"/>
                    <a:pt x="4082" y="99"/>
                  </a:cubicBezTo>
                  <a:cubicBezTo>
                    <a:pt x="3977" y="100"/>
                    <a:pt x="3834" y="99"/>
                    <a:pt x="3675" y="99"/>
                  </a:cubicBezTo>
                  <a:cubicBezTo>
                    <a:pt x="3516" y="98"/>
                    <a:pt x="3341" y="95"/>
                    <a:pt x="3129" y="94"/>
                  </a:cubicBezTo>
                  <a:cubicBezTo>
                    <a:pt x="2918" y="93"/>
                    <a:pt x="2634" y="94"/>
                    <a:pt x="2401" y="94"/>
                  </a:cubicBezTo>
                  <a:cubicBezTo>
                    <a:pt x="2168" y="95"/>
                    <a:pt x="2024" y="97"/>
                    <a:pt x="1733" y="98"/>
                  </a:cubicBezTo>
                  <a:cubicBezTo>
                    <a:pt x="1442" y="99"/>
                    <a:pt x="946" y="103"/>
                    <a:pt x="657" y="102"/>
                  </a:cubicBezTo>
                  <a:cubicBezTo>
                    <a:pt x="368" y="101"/>
                    <a:pt x="110" y="108"/>
                    <a:pt x="1" y="93"/>
                  </a:cubicBezTo>
                  <a:lnTo>
                    <a:pt x="0" y="13"/>
                  </a:lnTo>
                  <a:cubicBezTo>
                    <a:pt x="109" y="0"/>
                    <a:pt x="432" y="13"/>
                    <a:pt x="657" y="12"/>
                  </a:cubicBezTo>
                  <a:cubicBezTo>
                    <a:pt x="882" y="11"/>
                    <a:pt x="1082" y="7"/>
                    <a:pt x="1349" y="7"/>
                  </a:cubicBezTo>
                  <a:cubicBezTo>
                    <a:pt x="1617" y="6"/>
                    <a:pt x="2017" y="8"/>
                    <a:pt x="2265" y="9"/>
                  </a:cubicBezTo>
                  <a:cubicBezTo>
                    <a:pt x="2513" y="9"/>
                    <a:pt x="2634" y="9"/>
                    <a:pt x="2834" y="8"/>
                  </a:cubicBezTo>
                  <a:cubicBezTo>
                    <a:pt x="3034" y="9"/>
                    <a:pt x="3273" y="9"/>
                    <a:pt x="3477" y="10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98360" y="152280"/>
              <a:ext cx="716040" cy="6400800"/>
            </a:xfrm>
            <a:custGeom>
              <a:avLst/>
              <a:gdLst/>
              <a:ahLst/>
              <a:rect l="l" t="t" r="r" b="b"/>
              <a:pathLst>
                <a:path w="883" h="4115">
                  <a:moveTo>
                    <a:pt x="86" y="3201"/>
                  </a:moveTo>
                  <a:cubicBezTo>
                    <a:pt x="89" y="3056"/>
                    <a:pt x="83" y="2912"/>
                    <a:pt x="79" y="2730"/>
                  </a:cubicBezTo>
                  <a:cubicBezTo>
                    <a:pt x="75" y="2548"/>
                    <a:pt x="60" y="2270"/>
                    <a:pt x="64" y="2109"/>
                  </a:cubicBezTo>
                  <a:cubicBezTo>
                    <a:pt x="68" y="1948"/>
                    <a:pt x="99" y="1927"/>
                    <a:pt x="101" y="1765"/>
                  </a:cubicBezTo>
                  <a:cubicBezTo>
                    <a:pt x="103" y="1603"/>
                    <a:pt x="90" y="1323"/>
                    <a:pt x="79" y="1137"/>
                  </a:cubicBezTo>
                  <a:cubicBezTo>
                    <a:pt x="68" y="951"/>
                    <a:pt x="44" y="793"/>
                    <a:pt x="34" y="651"/>
                  </a:cubicBezTo>
                  <a:cubicBezTo>
                    <a:pt x="24" y="509"/>
                    <a:pt x="17" y="385"/>
                    <a:pt x="19" y="284"/>
                  </a:cubicBezTo>
                  <a:cubicBezTo>
                    <a:pt x="21" y="183"/>
                    <a:pt x="32" y="90"/>
                    <a:pt x="49" y="45"/>
                  </a:cubicBezTo>
                  <a:cubicBezTo>
                    <a:pt x="66" y="0"/>
                    <a:pt x="91" y="16"/>
                    <a:pt x="123" y="15"/>
                  </a:cubicBezTo>
                  <a:cubicBezTo>
                    <a:pt x="155" y="14"/>
                    <a:pt x="204" y="37"/>
                    <a:pt x="243" y="37"/>
                  </a:cubicBezTo>
                  <a:cubicBezTo>
                    <a:pt x="282" y="37"/>
                    <a:pt x="310" y="20"/>
                    <a:pt x="355" y="15"/>
                  </a:cubicBezTo>
                  <a:cubicBezTo>
                    <a:pt x="400" y="10"/>
                    <a:pt x="453" y="0"/>
                    <a:pt x="512" y="7"/>
                  </a:cubicBezTo>
                  <a:cubicBezTo>
                    <a:pt x="571" y="14"/>
                    <a:pt x="659" y="37"/>
                    <a:pt x="707" y="60"/>
                  </a:cubicBezTo>
                  <a:cubicBezTo>
                    <a:pt x="755" y="83"/>
                    <a:pt x="783" y="99"/>
                    <a:pt x="797" y="142"/>
                  </a:cubicBezTo>
                  <a:cubicBezTo>
                    <a:pt x="811" y="185"/>
                    <a:pt x="788" y="235"/>
                    <a:pt x="789" y="321"/>
                  </a:cubicBezTo>
                  <a:cubicBezTo>
                    <a:pt x="790" y="407"/>
                    <a:pt x="794" y="537"/>
                    <a:pt x="804" y="658"/>
                  </a:cubicBezTo>
                  <a:cubicBezTo>
                    <a:pt x="814" y="779"/>
                    <a:pt x="844" y="892"/>
                    <a:pt x="849" y="1047"/>
                  </a:cubicBezTo>
                  <a:cubicBezTo>
                    <a:pt x="854" y="1202"/>
                    <a:pt x="840" y="1394"/>
                    <a:pt x="834" y="1586"/>
                  </a:cubicBezTo>
                  <a:cubicBezTo>
                    <a:pt x="828" y="1778"/>
                    <a:pt x="805" y="1995"/>
                    <a:pt x="812" y="2199"/>
                  </a:cubicBezTo>
                  <a:cubicBezTo>
                    <a:pt x="819" y="2403"/>
                    <a:pt x="875" y="2624"/>
                    <a:pt x="879" y="2812"/>
                  </a:cubicBezTo>
                  <a:cubicBezTo>
                    <a:pt x="883" y="3000"/>
                    <a:pt x="840" y="3138"/>
                    <a:pt x="834" y="3329"/>
                  </a:cubicBezTo>
                  <a:cubicBezTo>
                    <a:pt x="828" y="3520"/>
                    <a:pt x="848" y="3836"/>
                    <a:pt x="842" y="3957"/>
                  </a:cubicBezTo>
                  <a:cubicBezTo>
                    <a:pt x="836" y="4078"/>
                    <a:pt x="833" y="4033"/>
                    <a:pt x="797" y="4054"/>
                  </a:cubicBezTo>
                  <a:cubicBezTo>
                    <a:pt x="761" y="4075"/>
                    <a:pt x="686" y="4086"/>
                    <a:pt x="625" y="4084"/>
                  </a:cubicBezTo>
                  <a:cubicBezTo>
                    <a:pt x="564" y="4082"/>
                    <a:pt x="492" y="4041"/>
                    <a:pt x="430" y="4039"/>
                  </a:cubicBezTo>
                  <a:cubicBezTo>
                    <a:pt x="368" y="4037"/>
                    <a:pt x="302" y="4057"/>
                    <a:pt x="251" y="4069"/>
                  </a:cubicBezTo>
                  <a:cubicBezTo>
                    <a:pt x="200" y="4081"/>
                    <a:pt x="162" y="4115"/>
                    <a:pt x="123" y="4114"/>
                  </a:cubicBezTo>
                  <a:cubicBezTo>
                    <a:pt x="84" y="4113"/>
                    <a:pt x="38" y="4102"/>
                    <a:pt x="19" y="4062"/>
                  </a:cubicBezTo>
                  <a:cubicBezTo>
                    <a:pt x="0" y="4022"/>
                    <a:pt x="3" y="3952"/>
                    <a:pt x="11" y="3875"/>
                  </a:cubicBezTo>
                  <a:cubicBezTo>
                    <a:pt x="19" y="3798"/>
                    <a:pt x="51" y="3710"/>
                    <a:pt x="64" y="3598"/>
                  </a:cubicBezTo>
                  <a:cubicBezTo>
                    <a:pt x="77" y="3486"/>
                    <a:pt x="83" y="3346"/>
                    <a:pt x="86" y="3201"/>
                  </a:cubicBezTo>
                  <a:close/>
                </a:path>
              </a:pathLst>
            </a:custGeom>
            <a:solidFill>
              <a:srgbClr val="9f83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09480" y="1295280"/>
              <a:ext cx="152640" cy="914400"/>
            </a:xfrm>
            <a:custGeom>
              <a:avLst/>
              <a:gdLst/>
              <a:ahLst/>
              <a:rect l="l" t="t" r="r" b="b"/>
              <a:pathLst>
                <a:path w="110" h="842">
                  <a:moveTo>
                    <a:pt x="92" y="0"/>
                  </a:moveTo>
                  <a:lnTo>
                    <a:pt x="81" y="170"/>
                  </a:lnTo>
                  <a:lnTo>
                    <a:pt x="51" y="362"/>
                  </a:lnTo>
                  <a:lnTo>
                    <a:pt x="74" y="539"/>
                  </a:lnTo>
                  <a:lnTo>
                    <a:pt x="88" y="709"/>
                  </a:lnTo>
                  <a:lnTo>
                    <a:pt x="110" y="842"/>
                  </a:lnTo>
                  <a:lnTo>
                    <a:pt x="81" y="768"/>
                  </a:lnTo>
                  <a:lnTo>
                    <a:pt x="59" y="716"/>
                  </a:lnTo>
                  <a:lnTo>
                    <a:pt x="29" y="598"/>
                  </a:lnTo>
                  <a:lnTo>
                    <a:pt x="0" y="414"/>
                  </a:lnTo>
                  <a:lnTo>
                    <a:pt x="22" y="251"/>
                  </a:lnTo>
                  <a:lnTo>
                    <a:pt x="51" y="81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75D19-DC2A-4B44-9B96-7A91ED678C00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6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7B6A-65E5-4236-B78C-C2B2020A6577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netcamp.prn.bc.ca/nuggets/heatingcurve.swf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mailto:tammymims@gaston.k12.nc.us" TargetMode="External"/><Relationship Id="rId4" Type="http://schemas.openxmlformats.org/officeDocument/2006/relationships/image" Target="../media/image2.png"/><Relationship Id="rId5" Type="http://schemas.openxmlformats.org/officeDocument/2006/relationships/hyperlink" Target="mailto:rmiller@gaston.k12.nc.us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owstuffworks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IM-8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8</a:t>
            </a:r>
            <a:r>
              <a:rPr b="1" lang="en-US" sz="4400" spc="-1" strike="noStrike" baseline="30000">
                <a:solidFill>
                  <a:srgbClr val="ff0000"/>
                </a:solidFill>
                <a:latin typeface="Comic Sans MS"/>
              </a:rPr>
              <a:t>th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Grade Science Professional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rsday, September 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al 4:  Chemist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02:  Evaluate evidence that elements combine in multiple ways to produce compounds that account for living and nonliving substan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5138640"/>
        </p:xfrm>
        <a:graphic>
          <a:graphicData uri="http://schemas.openxmlformats.org/drawingml/2006/table">
            <a:tbl>
              <a:tblPr/>
              <a:tblGrid>
                <a:gridCol w="4062240"/>
                <a:gridCol w="4167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% OF HUMAN BO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Oxy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arb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8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Hydro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Nitro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alc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Phosphor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Potass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Sulf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hlor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So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Iod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Trace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Under 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s combine in many different ways to form thousands of different chemica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erties depend upon the elements, numbers of atoms, and types of chemical bond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chemicals are helpful and some are harmful, depending on properties and dosa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02:  Evaluate evidence that elements combine in multiple ways to produce compounds that account for living and nonliving substanc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03:  Explain how the periodic table is a model for classifying elements and identifying the properties of ele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iodic table is a MAP  of the ele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ganization and trends communicate basic information about the ele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ubstance’s atomic structure determines its physical and chemical properties – and suitability for use in desig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04:  Describe the suitability of materials for use in technological desig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nk-Pair-Share:  Answer the following ques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can’t you build a house out of suga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are structures made of iron paint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don’t we use helium in electrical wiring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** Properties of materials determine whether they will function in a desig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f83bd"/>
                </a:solidFill>
                <a:uFillTx/>
                <a:latin typeface="Comic Sans MS"/>
                <a:hlinkClick r:id="rId3"/>
              </a:rPr>
              <a:t>Heating curve of wa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erties of matter may be either physical or chemic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Physical – freezing, melting, boil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ter can undergo physical changes which affect only physical propert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4.05:  Identify substances based on characteristic physical propert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4.05:  Identify substances based on characteristic physical propert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133720" y="1600200"/>
            <a:ext cx="54100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06:  Describe and measure quantities related to chemical and physical changes within a syst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t a piece of warhead can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st the physical properties of the can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dict the chemical properties of the can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t the can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e evidence of a chemical chang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idence of a chemical change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gas produ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bubb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od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precipit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change in tempera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release of lig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change in col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06:  Describe and measure quantities related to chemical and physical changes within a syst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4.07:  Identify evidence supporting the law of conservation of mat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# Atoms   =  # Ato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tants  &gt;&gt;&gt;   Produ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uminium + Oxygen  &gt;&gt;&gt;  Aluminium Oxi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&gt;&gt;&gt; 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 +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&gt;&gt;&gt;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efficien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scrip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 rot="12395400">
            <a:off x="7009920" y="4800600"/>
            <a:ext cx="990720" cy="457200"/>
          </a:xfrm>
          <a:custGeom>
            <a:avLst/>
            <a:gdLst>
              <a:gd name="textAreaLeft" fmla="*/ 173160 w 990720"/>
              <a:gd name="textAreaRight" fmla="*/ 718200 w 990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rot="9306600">
            <a:off x="1801080" y="4571280"/>
            <a:ext cx="1170000" cy="539640"/>
          </a:xfrm>
          <a:custGeom>
            <a:avLst/>
            <a:gdLst>
              <a:gd name="textAreaLeft" fmla="*/ 204480 w 1170000"/>
              <a:gd name="textAreaRight" fmla="*/ 848160 w 1170000"/>
              <a:gd name="textAreaTop" fmla="*/ 72000 h 539640"/>
              <a:gd name="textAreaBottom" fmla="*/ 46764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1051830"/>
                <a:lnTo>
                  <a:pt x="19105" y="16035"/>
                </a:lnTo>
                <a:lnTo>
                  <a:pt x="17280" y="0"/>
                </a:lnTo>
                <a:lnTo>
                  <a:pt x="10465" y="16035"/>
                </a:lnTo>
                <a:lnTo>
                  <a:pt x="12625" y="16035"/>
                </a:lnTo>
                <a:arcTo wR="7560" hR="21600" stAng="4348170" swAng="694395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negar and Baking Soda Reactio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nthesis Rea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composition Rea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gle Replacement Rea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uble Replacement Rea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07:  Identify evidence supporting the law of conservation of mat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assroom Technolo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mart Board, Laptop, Projector, Classroom Response System, Airliner, Document Came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 Ordered September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 Shipped September 1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 Arrival September 2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 Installed September 30 ***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ter can neither be created nor destroyed but can be changed from one form to an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tal mass of reactants equals total mass of produ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mical reactions alter arrangements of atoms by breaking and making new chemical bon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4.07:  Identify evidence supporting the law of conservation of mat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08: Chemicals affect human health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09:  Factors that determine effects of chemicals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10:  Risks and benefits of chemic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IGSAW:  Two groups per t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1 Rea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 Case Study #1 in “Chemicals…”, p. Master 1.5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Poison: Safety is No Accident in “Breakthroughs…”, p. 14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2 Re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 Case Study #3 in “Chemicals…”, p. Master 1.5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Chemicals that Cause Disease in “Breakthroughs…”, p. 14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Master 1.4 when reading the Case Stud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swer two additional question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 How does each article apply to the NCSCO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 How would you extend this activity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of Reading in the Content Are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of a non-textbook resour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hemical is toxic if it produces adverse effects in a living organism at levels of exposure that are likely to occur causing sick symptom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th naturally occurring and synthetic chemicals can have detrimental effects on human health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micals can enter the body through ingestion, inhalation, and absorp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ffect of a chemical on the body depends on dose, concentration, length of exposure, and route of exposu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mistry is important in all functions of daily lif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08: Chemicals affect human health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09:  Factors that determine effects of chemicals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10:  Risks and benefits of chemic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08: Chemicals affect human health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09:  Factors that determine effects of chemicals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10:  Risks and benefits of chemic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tain products from middle of 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one food product and one oth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the physical properties of this produ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t the chemical properties of this produ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 you think this product is helpful? harmfu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ngredients might the product contain that would be considered additiv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do the warning labels say on the produc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could you find out more information on this product, its uses, and the risks or benefits of the produc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los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tional Professional Development Dat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day, October 2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 3:  Hydrosph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esday, February 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 5:  Evolutionary Chan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esday, March 1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 6:  Cell The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 7:  Microbiolog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oncerns and 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mmy Mims (Science Instruction and Suppli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9f83bd"/>
                </a:solidFill>
                <a:uFillTx/>
                <a:latin typeface="Comic Sans MS"/>
                <a:hlinkClick r:id="rId3"/>
              </a:rPr>
              <a:t>tammymims@gaston.k12.nc.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xie Miller (Instructional Technolog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9f83bd"/>
                </a:solidFill>
                <a:uFillTx/>
                <a:latin typeface="Comic Sans MS"/>
                <a:hlinkClick r:id="rId5"/>
              </a:rPr>
              <a:t>rmiller@gaston.k12.nc.u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ool –Based Technical Support (Instructional Technolog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ease take a few minutes to complete the Workshop Evaluation For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will get credit for all four sess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will be notified once the workshop is available for registr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Laboratory Resources and Equipm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ni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Ordered September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Shipped October 2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Distribution and Training October 2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her Scientif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Ordered September 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Shipped September 26 ***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Arrival October 10 ***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Will arrive in one teachers name;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grade science teachers will have to count and s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oday’s Agenda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Goal 4: Chemistr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:00 – 8:30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lcome and Introdu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:30 – 11:3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lta Edu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ter and Change” K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1:30 – 12:3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NCH  (on your own!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:30 – 2:4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riculum Reinforc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urces and Activ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45 – 3:0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ion and Clos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mistry Scavenger Hu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5-10 items within the next 15 minu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side each number, identify the SCOS objective under Goal 4 that would correlate to that item / tas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mistry Scavenger Hu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long term project or portfol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ir up and answer the following ques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 How does this activity apply to the NCSCO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 What did you really like about this activit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 What would you change about this activity if you used it with your student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 How would the design of a portfolio allow students to apply Goal 4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01:  Understand that both naturally occurring and synthetic substances are chemica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ine these four terms: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hemic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to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do the terms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ynthetic, toxic, nontoxic, naturally occurr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xtend the meaning of these term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Chemical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– any substance having a defined molecular composi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Atom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– A unit of matter, the smallest unit of an element, having all the characteristics of that element and consisting of a dense, central, positively charged nucleus surrounded by a system of electron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Elemen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– a form of matter that cannot be broken down into simpler substances; elements exist in nature as solids, liquids and gas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Compound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- a pure substance composed of two or more elements whose composition is constan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f83bd"/>
                </a:solidFill>
                <a:uFillTx/>
                <a:latin typeface="Comic Sans MS"/>
                <a:hlinkClick r:id="rId3"/>
              </a:rPr>
              <a:t>“Everything is Made of Chemicals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do the following substances satisfy the definition of a chemical? compou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 Water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 Sugar 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 Salt (NaCl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01:  Understand that both naturally occurring and synthetic substances are chemica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3:39:48Z</dcterms:created>
  <dc:creator>tammy</dc:creator>
  <dc:description/>
  <dc:language>en-US</dc:language>
  <cp:lastModifiedBy>Gaston</cp:lastModifiedBy>
  <dcterms:modified xsi:type="dcterms:W3CDTF">2008-09-17T16:58:10Z</dcterms:modified>
  <cp:revision>2</cp:revision>
  <dc:subject/>
  <dc:title>AIM-8 8th Grade Science Professional Development</dc:title>
</cp:coreProperties>
</file>