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597F-D694-4425-8331-E27ACCF8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C02F-D878-42EA-88FB-2946491B0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1748-F9DE-4FC2-88F3-181EC833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13B8-412D-4E5E-90F1-905B03982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3371-200E-49C4-900C-F31C2B599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0357-AB60-4678-8BA4-20EFD6FD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9990-F2DA-4FEF-8E7F-26D3695E0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DD12-7C34-449F-8E5A-92CCF79A3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9805-2FB1-4634-9EFD-16E660FAB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AB15-EF64-4DCA-A4B7-ACD42E6C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E63-5774-4E93-BB2E-FADBD345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EDA7-D7E1-463D-92A7-1B0559098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D156-E329-4237-AEE5-AFCEA578C1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fossweb.com/fossweb_beta/planetfoss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Grade Scien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esday, February 10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Happy to See You To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83040" y="2590920"/>
            <a:ext cx="2936880" cy="11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atellite image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method to monitor Earth from spac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(SD 90-94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pectral analy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flectance cu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114800" y="3429000"/>
            <a:ext cx="2514600" cy="24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p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round truth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emote sens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make predictions regard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1,P1,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hanges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nd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rban spra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resourc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800600" y="3132000"/>
            <a:ext cx="3276720" cy="31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oss Kit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982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and systems that have operated over geological 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edimentary rocks and fossils from the Grand Canyon to discover clues that reveal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cesses that create sedimentary, igneous and metamorphic rocks and organize their observations and inferences into the Rock Cyc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data gained from observing rocks to make inferences about organisms, environments, and events that occurred over Earth's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5.01, 5.02, 5.03, 5.0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PlanetFOS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228600"/>
            <a:ext cx="46483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fessional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ur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ch 19,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:00 – 3:00 @ Rader Cen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6: Cell The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7: Microb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19948200">
            <a:off x="1677960" y="3504960"/>
            <a:ext cx="22845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erials and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pack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used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ing up spa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know how to 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’t use?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06072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57200" y="228600"/>
          <a:ext cx="8381880" cy="7023240"/>
        </p:xfrm>
        <a:graphic>
          <a:graphicData uri="http://schemas.openxmlformats.org/drawingml/2006/table">
            <a:tbl>
              <a:tblPr/>
              <a:tblGrid>
                <a:gridCol w="3335400"/>
                <a:gridCol w="1057320"/>
                <a:gridCol w="2084400"/>
                <a:gridCol w="1904760"/>
              </a:tblGrid>
              <a:tr h="1037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th Grade Science Teacher Observations Schedu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cheduled Vis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ning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olbrook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35-12: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nle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:35-3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unt Holly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25-10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lmon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5-9: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ramerton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45-12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ier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fter 11:00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30-10: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ork Chester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07-11: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uthwest Middle Scho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0-11: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.C. Frida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:14-11: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ohn Chavis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:45-10: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ssemer City Midd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30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r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-Fe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:45-1: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arka Surv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your ema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on the survey lin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the surv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133720"/>
            <a:ext cx="2539800" cy="22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ope and Sequ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304920" y="1371600"/>
          <a:ext cx="8610120" cy="5079960"/>
        </p:xfrm>
        <a:graphic>
          <a:graphicData uri="http://schemas.openxmlformats.org/drawingml/2006/table">
            <a:tbl>
              <a:tblPr/>
              <a:tblGrid>
                <a:gridCol w="2869920"/>
                <a:gridCol w="3348720"/>
                <a:gridCol w="239148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st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mist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 - 3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nd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ydr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 - 3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3</a:t>
                      </a:r>
                      <a:r>
                        <a:rPr b="1" lang="en-US" sz="2800" spc="-1" strike="noStrike" baseline="30000">
                          <a:solidFill>
                            <a:srgbClr val="cc0000"/>
                          </a:solidFill>
                          <a:latin typeface="Arial"/>
                        </a:rPr>
                        <a:t>rd</a:t>
                      </a: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ol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Goal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20% - 2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th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Nine Wee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lls / Microbiolog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al 6 /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% - 1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earner will </a:t>
            </a:r>
            <a:r>
              <a:rPr b="1" lang="en-US" sz="3600" spc="-1" strike="noStrike" u="sng">
                <a:solidFill>
                  <a:srgbClr val="cc0000"/>
                </a:solidFill>
                <a:uFillTx/>
                <a:latin typeface="Arial"/>
              </a:rPr>
              <a:t>conduct investigation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utilize appropriate technologi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3600" spc="-1" strike="noStrike" u="sng">
                <a:solidFill>
                  <a:srgbClr val="99cc00"/>
                </a:solidFill>
                <a:uFillTx/>
                <a:latin typeface="Arial"/>
              </a:rPr>
              <a:t>information syste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build an understanding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9900"/>
                </a:solidFill>
                <a:uFillTx/>
                <a:latin typeface="Arial"/>
              </a:rPr>
              <a:t>evidence of evolution in organisms and landform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99404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295280"/>
            <a:ext cx="8229600" cy="48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pret ways in which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rocks, fossils, and ice c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rd Earth’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histo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 of lif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 time scal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22-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index fossil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31-4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aw of superposition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50-6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unconformity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vidence of climate change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2)(SD 14-21,64-6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xtinction of specie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)(SD 85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catastrophic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629400" y="3124080"/>
            <a:ext cx="21589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lat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volutionary the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roces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bi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1,3)(SD 14-65,76-8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ge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,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technological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724280" y="3962520"/>
            <a:ext cx="304812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5: Evolution / Earth’s Hi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5.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evidence that th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eologic evolu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s had significan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global imp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lu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distribution of living thing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(SD 76-8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ajor geological events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3)(SD 66-7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mechanical and chemical weathering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U6,P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200400" y="4495680"/>
            <a:ext cx="23623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0:55:58Z</dcterms:created>
  <dc:creator>tammy</dc:creator>
  <dc:description/>
  <dc:language>en-US</dc:language>
  <cp:lastModifiedBy>tammy</cp:lastModifiedBy>
  <dcterms:modified xsi:type="dcterms:W3CDTF">2009-02-10T03:53:07Z</dcterms:modified>
  <cp:revision>2</cp:revision>
  <dc:subject/>
  <dc:title>8th Grade Science Professional Development</dc:title>
</cp:coreProperties>
</file>