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F50-9A93-40D0-B5C1-0E8A33A6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8C9-61E6-4BAE-9C0B-3C5F57CC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536-A7B0-4FE8-AD3E-39555F5C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69E-2DA3-4C25-83FD-DBE081C2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8A6-97CD-4088-A7A6-103F5899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E64-6353-44AC-8A25-0541E3A6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93F-6AA5-420D-B28D-84AC997D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AE7-BCB9-4E47-A65E-0EA97503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6BE-9CBE-43C6-ACA4-DC0BCC16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E9B-0EF9-4B08-AF94-77DB131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342-B858-4FBF-97F2-7BB05E8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A48-4A82-4502-AEA5-2812E09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D015-77E6-4F1D-A30F-55B5F2F0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ssweb.com/fossweb_beta/planetfoss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Sc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February 1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appy to See You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83040" y="2590920"/>
            <a:ext cx="293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tellite ima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method to monitor Earth from spa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(SD 90-9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ectral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lectance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2514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und tru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mote sen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predictions regard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rban spra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3132000"/>
            <a:ext cx="32767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s Ki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and systems that have operated over geological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edimentary rocks and fossils from the Grand Canyon to discover clues that reveal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that create sedimentary, igneous and metamorphic rocks and organize their observations and inferences into the Rock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ata gained from observing rocks to make inferences about organisms, environments, and events that occurred over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PlanetFO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4648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:00 – 3:00 @ Rader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6: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7: Micro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19948200">
            <a:off x="1677960" y="3504960"/>
            <a:ext cx="2284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a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up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 how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use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0607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28600"/>
          <a:ext cx="8381880" cy="7023240"/>
        </p:xfrm>
        <a:graphic>
          <a:graphicData uri="http://schemas.openxmlformats.org/drawingml/2006/table">
            <a:tbl>
              <a:tblPr/>
              <a:tblGrid>
                <a:gridCol w="3335400"/>
                <a:gridCol w="1057320"/>
                <a:gridCol w="2084400"/>
                <a:gridCol w="1904760"/>
              </a:tblGrid>
              <a:tr h="103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th Grade Science Teacher Observations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 Vis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brook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5-12: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35-3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nt Holl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25-10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mon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5-9: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merton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45-12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er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1:0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0-10: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rk Chester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7-11: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0-11: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.C. Frida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4-11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Chavis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45-10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semer Cit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45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rka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survey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5398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and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371600"/>
          <a:ext cx="8610120" cy="5079960"/>
        </p:xfrm>
        <a:graphic>
          <a:graphicData uri="http://schemas.openxmlformats.org/drawingml/2006/table">
            <a:tbl>
              <a:tblPr/>
              <a:tblGrid>
                <a:gridCol w="2869920"/>
                <a:gridCol w="3348720"/>
                <a:gridCol w="2391480"/>
              </a:tblGrid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s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- 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 - 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oa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% - 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 / Microbi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6 /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onduct investig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tilize appropriate technolog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information syst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build an understanding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evidence of evolution in organisms and landfo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9940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ways in whi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cks, fossils, and ice c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Earth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 of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 time sca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22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x fossil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31-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w of superpositi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50-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nconformity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vidence of climate chang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14-21,64-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tinction of specie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)(SD 85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astrophic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1589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ary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3)(SD 14-65,76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0481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evidence th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had signific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obal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tribution of living thing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76-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jor geological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chanical and chemical weather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449568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55:58Z</dcterms:created>
  <dc:creator>tammy</dc:creator>
  <dc:description/>
  <dc:language>en-US</dc:language>
  <cp:lastModifiedBy>tammy</cp:lastModifiedBy>
  <dcterms:modified xsi:type="dcterms:W3CDTF">2009-02-10T03:53:07Z</dcterms:modified>
  <cp:revision>2</cp:revision>
  <dc:subject/>
  <dc:title>8th Grade Science Professional Development</dc:title>
</cp:coreProperties>
</file>