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14F3-D39C-4590-A10E-888CDA061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FAF1-6A4B-44D4-8940-7E21E126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CDE4-9E48-418F-95D6-4C71E45EB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52CC-D219-42FF-B52F-98B09ADF3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04FC-1C35-40DC-AE8C-48DADDAF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9DFB-01A3-4DAE-9616-19588000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A257-0619-473C-8B5E-36CE0D33B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80E6-037A-4D53-9715-88F8812A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BD8B-EF58-4061-BA3D-29250A6E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A53E-053E-452B-917F-00FA151C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0022-5545-4AE7-9B9C-97AC1090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C5BB-4DDF-4B6E-AFE8-5EA203256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4ABBB-2141-416C-95E2-4835E5A57C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1.xml"/><Relationship Id="rId3" Type="http://schemas.openxmlformats.org/officeDocument/2006/relationships/slide" Target="slide13.xml"/><Relationship Id="rId4" Type="http://schemas.openxmlformats.org/officeDocument/2006/relationships/slide" Target="slide15.xml"/><Relationship Id="rId5" Type="http://schemas.openxmlformats.org/officeDocument/2006/relationships/slide" Target="slide17.xml"/><Relationship Id="rId6" Type="http://schemas.openxmlformats.org/officeDocument/2006/relationships/slide" Target="slide19.xml"/><Relationship Id="rId7" Type="http://schemas.openxmlformats.org/officeDocument/2006/relationships/slide" Target="slide21.xml"/><Relationship Id="rId8" Type="http://schemas.openxmlformats.org/officeDocument/2006/relationships/slide" Target="slide23.xml"/><Relationship Id="rId9" Type="http://schemas.openxmlformats.org/officeDocument/2006/relationships/slide" Target="slide25.xml"/><Relationship Id="rId10" Type="http://schemas.openxmlformats.org/officeDocument/2006/relationships/slide" Target="slide27.xml"/><Relationship Id="rId11" Type="http://schemas.openxmlformats.org/officeDocument/2006/relationships/slide" Target="slide29.xml"/><Relationship Id="rId12" Type="http://schemas.openxmlformats.org/officeDocument/2006/relationships/slide" Target="slide31.xml"/><Relationship Id="rId13" Type="http://schemas.openxmlformats.org/officeDocument/2006/relationships/slide" Target="slide33.xml"/><Relationship Id="rId14" Type="http://schemas.openxmlformats.org/officeDocument/2006/relationships/slide" Target="slide35.xml"/><Relationship Id="rId15" Type="http://schemas.openxmlformats.org/officeDocument/2006/relationships/slide" Target="slide37.xml"/><Relationship Id="rId16" Type="http://schemas.openxmlformats.org/officeDocument/2006/relationships/slide" Target="slide39.xml"/><Relationship Id="rId17" Type="http://schemas.openxmlformats.org/officeDocument/2006/relationships/slide" Target="slide41.xml"/><Relationship Id="rId18" Type="http://schemas.openxmlformats.org/officeDocument/2006/relationships/slide" Target="slide43.xml"/><Relationship Id="rId19" Type="http://schemas.openxmlformats.org/officeDocument/2006/relationships/slide" Target="slide45.xml"/><Relationship Id="rId20" Type="http://schemas.openxmlformats.org/officeDocument/2006/relationships/slide" Target="slide47.xml"/><Relationship Id="rId21" Type="http://schemas.openxmlformats.org/officeDocument/2006/relationships/slide" Target="slide49.xml"/><Relationship Id="rId22" Type="http://schemas.openxmlformats.org/officeDocument/2006/relationships/slide" Target="slide51.xml"/><Relationship Id="rId2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5800" y="647712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reated by Renee Baity from Mt Holly Midd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neral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676520" y="1143000"/>
            <a:ext cx="601956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Hardness      Color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Streak           Luster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Cleavage       Fractur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057400" y="1600200"/>
            <a:ext cx="59436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properti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used t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dentify mineral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676520" y="990720"/>
            <a:ext cx="55720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Extrusive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Intrusiv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wo types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gneous ro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219320" y="914400"/>
            <a:ext cx="678168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elted rock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aterial cooled on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Earth's surfac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523880" y="1447920"/>
            <a:ext cx="624852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trusiv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gneous ro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066680" y="838080"/>
            <a:ext cx="678204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elted rock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aterial coole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beneath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Earth's surfac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371600" y="1371600"/>
            <a:ext cx="64771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rusi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gneous ro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219320" y="838080"/>
            <a:ext cx="670536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Forms from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layers of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sediment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cks an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ner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t 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752480" y="1295280"/>
            <a:ext cx="586764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dimenta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676520" y="838080"/>
            <a:ext cx="640080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Forms from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ineral grains or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iny parts of rock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752480" y="1143000"/>
            <a:ext cx="60199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trit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dimentar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295280" y="990720"/>
            <a:ext cx="662940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Forms from mineral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dissolved in water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hat evaporates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219320" y="1295280"/>
            <a:ext cx="685800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m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dimenta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990720" y="990720"/>
            <a:ext cx="716256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Forms from th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remains of living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plants and animals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295280" y="1219320"/>
            <a:ext cx="662940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dimenta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143000" y="1066680"/>
            <a:ext cx="67057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New rock forme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when existing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rock is heate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or squeeze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371600" y="1371600"/>
            <a:ext cx="632448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tamorphi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0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143000" y="838080"/>
            <a:ext cx="68580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Rocks are broken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part by physical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processes and similar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o original rocks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cks 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ner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t I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0720" y="1219320"/>
            <a:ext cx="716256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chan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athering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3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8080" y="838080"/>
            <a:ext cx="746784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Occurs when chemical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reactions dissolve minerals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or change them into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different minerals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8080" y="1143000"/>
            <a:ext cx="762012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m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athering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6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143000" y="838080"/>
            <a:ext cx="678168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echanical weathering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process caused by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water freezing insid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he cracks of rocks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914400" y="1143000"/>
            <a:ext cx="746748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dging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914400" y="838080"/>
            <a:ext cx="723888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Ice wedging,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plants, and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imals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914400" y="1143000"/>
            <a:ext cx="746748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ysical process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cau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chanical weathering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914400" y="838080"/>
            <a:ext cx="73152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Natural acid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oxidation an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plant aci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8080" y="1143000"/>
            <a:ext cx="754380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mical reac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cau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mical weathering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914400" y="1066680"/>
            <a:ext cx="7467480" cy="522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 mixture of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weathered rock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decayed organic matter,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ineral fragments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water and air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838080" y="1295280"/>
            <a:ext cx="73915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ather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Soi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t 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914400" y="1676520"/>
            <a:ext cx="71629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il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90720" y="1066680"/>
            <a:ext cx="7162560" cy="522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Climate, slop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of the land,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ypes of rocks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ypes of plants,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d tim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0880" y="990720"/>
            <a:ext cx="8229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ve facto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affect soi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velopme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8080" y="1066680"/>
            <a:ext cx="7467840" cy="522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Farming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removing forest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d overgrazing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990720" y="1066680"/>
            <a:ext cx="701028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uses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il erosio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8080" y="990720"/>
            <a:ext cx="7315200" cy="529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No-till farming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contour farming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d terracing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762120" y="1143000"/>
            <a:ext cx="769608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way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contro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il erosio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762120" y="914400"/>
            <a:ext cx="7696080" cy="537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he dropping of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sediments that occurs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when water, wind, or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glaciers lose their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energy and can no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longer carry the loa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09480" y="1752480"/>
            <a:ext cx="807732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positio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762120" y="838080"/>
            <a:ext cx="769608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Crust, mantl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outer core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d inner cor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295280" y="1828800"/>
            <a:ext cx="67057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ather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Soi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t I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8080" y="990720"/>
            <a:ext cx="754380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ur layers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Earth'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ructur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914400" y="838080"/>
            <a:ext cx="72388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ension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compression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subduction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d shearing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8080" y="990720"/>
            <a:ext cx="7543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t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veme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62120" y="838080"/>
            <a:ext cx="769608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Fault-block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folded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upwarped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d volcanic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914400" y="990720"/>
            <a:ext cx="74674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ur typ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mountain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762120" y="838080"/>
            <a:ext cx="739116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he principle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hat Earth's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lithosphere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floats on th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sthenospher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990720" y="990720"/>
            <a:ext cx="74674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ostasy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685800" y="838080"/>
            <a:ext cx="7848720" cy="541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Convection of th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antle, ridge-push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d slab-pull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62120" y="914400"/>
            <a:ext cx="761976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ories t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plain pl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veme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ctonic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914400" y="990720"/>
            <a:ext cx="74674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sudden rele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potential energ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resulting move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066680" y="990720"/>
            <a:ext cx="723924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uses a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arthquak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0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762120" y="1066680"/>
            <a:ext cx="777240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imary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condary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surfa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8080" y="990720"/>
            <a:ext cx="769644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fferent typ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seismic wave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914400" y="990720"/>
            <a:ext cx="723888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reaks i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cks; normal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verse, 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rike-sli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219320" y="1600200"/>
            <a:ext cx="63244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ult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914400" y="990720"/>
            <a:ext cx="75438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cientis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o stu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arthquak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609480" y="1066680"/>
            <a:ext cx="77724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ismologist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85800" y="1143000"/>
            <a:ext cx="784872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ccurs on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cean floor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werfu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ismic sea wa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8080" y="990720"/>
            <a:ext cx="7543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sunami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arthquak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Volcano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2133720" y="2362320"/>
            <a:ext cx="4724280" cy="22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 result of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agma rising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o Earth's surfac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4320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38080" y="990720"/>
            <a:ext cx="7543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olcano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7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ocks and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inerals Part I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ocks and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inerals Part II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eathering and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oil Part I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eathering and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oil Part II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lat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ectonic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arthquak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nd Volcano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676520" y="990720"/>
            <a:ext cx="557208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Solid, inorganic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aterial foun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in natur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Connie Burton</dc:creator>
  <dc:description/>
  <dc:language>en-US</dc:language>
  <cp:lastModifiedBy>Gaston</cp:lastModifiedBy>
  <dcterms:modified xsi:type="dcterms:W3CDTF">2008-01-08T14:57:13Z</dcterms:modified>
  <cp:revision>68</cp:revision>
  <dc:subject>Math</dc:subject>
  <dc:title>5th Gr. Math Jeopardy after Lesson 1.3</dc:title>
</cp:coreProperties>
</file>