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7685-863B-4A34-BE3D-0870F7E14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2C99-F418-40E7-843D-4BCE7A34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3248-8742-4528-ACE9-866D3726D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5315-B1C8-4622-80C4-DD67AA90D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EB6E-481C-40C0-9E03-7A5E5B93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AA1E-7D72-472C-8B1B-BE2ECF2E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1262-5BEE-410C-8854-EA5A532C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FD4C-E61A-4DF8-A44A-64AC4E4F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8D3C-CA27-4A05-898C-14375F9F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558F-3A53-450E-951F-EAE34104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1203-9F83-469B-8FCB-965EB525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D30D-EAC5-40E7-86DC-3C240A4C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E122-D8A5-467C-B375-56242E738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1.xml"/><Relationship Id="rId3" Type="http://schemas.openxmlformats.org/officeDocument/2006/relationships/slide" Target="slide13.xml"/><Relationship Id="rId4" Type="http://schemas.openxmlformats.org/officeDocument/2006/relationships/slide" Target="slide15.xml"/><Relationship Id="rId5" Type="http://schemas.openxmlformats.org/officeDocument/2006/relationships/slide" Target="slide17.xml"/><Relationship Id="rId6" Type="http://schemas.openxmlformats.org/officeDocument/2006/relationships/slide" Target="slide19.xml"/><Relationship Id="rId7" Type="http://schemas.openxmlformats.org/officeDocument/2006/relationships/slide" Target="slide21.xml"/><Relationship Id="rId8" Type="http://schemas.openxmlformats.org/officeDocument/2006/relationships/slide" Target="slide23.xml"/><Relationship Id="rId9" Type="http://schemas.openxmlformats.org/officeDocument/2006/relationships/slide" Target="slide25.xml"/><Relationship Id="rId10" Type="http://schemas.openxmlformats.org/officeDocument/2006/relationships/slide" Target="slide27.xml"/><Relationship Id="rId11" Type="http://schemas.openxmlformats.org/officeDocument/2006/relationships/slide" Target="slide29.xml"/><Relationship Id="rId12" Type="http://schemas.openxmlformats.org/officeDocument/2006/relationships/slide" Target="slide31.xml"/><Relationship Id="rId13" Type="http://schemas.openxmlformats.org/officeDocument/2006/relationships/slide" Target="slide33.xml"/><Relationship Id="rId14" Type="http://schemas.openxmlformats.org/officeDocument/2006/relationships/slide" Target="slide35.xml"/><Relationship Id="rId15" Type="http://schemas.openxmlformats.org/officeDocument/2006/relationships/slide" Target="slide37.xml"/><Relationship Id="rId16" Type="http://schemas.openxmlformats.org/officeDocument/2006/relationships/slide" Target="slide39.xml"/><Relationship Id="rId17" Type="http://schemas.openxmlformats.org/officeDocument/2006/relationships/slide" Target="slide41.xml"/><Relationship Id="rId18" Type="http://schemas.openxmlformats.org/officeDocument/2006/relationships/slide" Target="slide43.xml"/><Relationship Id="rId19" Type="http://schemas.openxmlformats.org/officeDocument/2006/relationships/slide" Target="slide45.xml"/><Relationship Id="rId20" Type="http://schemas.openxmlformats.org/officeDocument/2006/relationships/slide" Target="slide47.xml"/><Relationship Id="rId21" Type="http://schemas.openxmlformats.org/officeDocument/2006/relationships/slide" Target="slide49.xml"/><Relationship Id="rId22" Type="http://schemas.openxmlformats.org/officeDocument/2006/relationships/slide" Target="slide51.xml"/><Relationship Id="rId2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5800" y="647712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reated by Renee Baity from Mt Holly Midd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neral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676520" y="1143000"/>
            <a:ext cx="601956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Hardness      Color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Streak           Luster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Cleavage       Fractur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057400" y="1600200"/>
            <a:ext cx="594360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properti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e used to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dentify mineral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676520" y="990720"/>
            <a:ext cx="55720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Extrusive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nd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Intrusiv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wo types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gneous rock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219320" y="914400"/>
            <a:ext cx="678168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Melted rock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material cooled on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Earth's surfac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523880" y="1447920"/>
            <a:ext cx="624852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xtrusiv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gneous rock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066680" y="838080"/>
            <a:ext cx="678204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Melted rock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material cooled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beneath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Earth's surfac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371600" y="1371600"/>
            <a:ext cx="64771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rusiv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gneous rock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219320" y="838080"/>
            <a:ext cx="670536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Forms from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layers of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sediment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cks an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nera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rt 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752480" y="1295280"/>
            <a:ext cx="5867640" cy="449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dimenta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ck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676520" y="838080"/>
            <a:ext cx="640080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Forms from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mineral grains or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tiny parts of rock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752480" y="1143000"/>
            <a:ext cx="60199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trit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dimentar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ck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295280" y="990720"/>
            <a:ext cx="662940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Forms from mineral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dissolved in water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that evaporates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219320" y="1295280"/>
            <a:ext cx="685800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em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dimenta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ck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4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990720" y="990720"/>
            <a:ext cx="716256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Forms from th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remains of living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plants and animals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295280" y="1219320"/>
            <a:ext cx="662940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i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dimenta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ck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143000" y="1066680"/>
            <a:ext cx="67057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New rock formed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when existing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rock is heated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or squeezed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371600" y="1371600"/>
            <a:ext cx="632448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tamorphi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ck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0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143000" y="838080"/>
            <a:ext cx="68580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Rocks are broken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part by physical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processes and similar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to original rocks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9907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cks 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nera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rt I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90720" y="1219320"/>
            <a:ext cx="716256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chan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eathering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3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8080" y="838080"/>
            <a:ext cx="746784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Occurs when chemical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reactions dissolve minerals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or change them into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different minerals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8080" y="1143000"/>
            <a:ext cx="762012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em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eathering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6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143000" y="838080"/>
            <a:ext cx="678168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Mechanical weathering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process caused by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water freezing insid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the cracks of rocks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914400" y="1143000"/>
            <a:ext cx="746748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edging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9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914400" y="838080"/>
            <a:ext cx="723888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Ice wedging,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plants, and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nimals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914400" y="1143000"/>
            <a:ext cx="746748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ysical process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cau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chanical weathering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2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914400" y="838080"/>
            <a:ext cx="73152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Natural acid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oxidation and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plant acid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8080" y="1143000"/>
            <a:ext cx="754380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emical reacti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cau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emical weathering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914400" y="1066680"/>
            <a:ext cx="7467480" cy="522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 mixture of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weathered rock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decayed organic matter,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mineral fragments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water and air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838080" y="1295280"/>
            <a:ext cx="73915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eatheri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Soi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rt 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914400" y="1676520"/>
            <a:ext cx="716292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il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990720" y="1066680"/>
            <a:ext cx="7162560" cy="522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Climate, slop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of the land,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types of rocks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types of plants,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nd tim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0880" y="990720"/>
            <a:ext cx="8229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ve facto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affect soi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velopmen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8080" y="1066680"/>
            <a:ext cx="7467840" cy="522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Farming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removing forest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nd overgrazing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990720" y="1066680"/>
            <a:ext cx="701028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uses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il erosion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8080" y="990720"/>
            <a:ext cx="7315200" cy="529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No-till farming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contour farming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nd terracing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762120" y="1143000"/>
            <a:ext cx="769608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way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contro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il erosion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762120" y="914400"/>
            <a:ext cx="7696080" cy="537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The dropping of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sediments that occurs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when water, wind, or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glaciers lose their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energy and can no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longer carry the load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09480" y="1752480"/>
            <a:ext cx="807732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position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762120" y="838080"/>
            <a:ext cx="769608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Crust, mantl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outer core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nd inner cor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295280" y="1828800"/>
            <a:ext cx="67057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eather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Soi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rt I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8080" y="990720"/>
            <a:ext cx="754380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ur layers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Earth'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ructur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914400" y="838080"/>
            <a:ext cx="723888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Tension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compression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subduction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nd shearing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8080" y="990720"/>
            <a:ext cx="7543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s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at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vemen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6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762120" y="838080"/>
            <a:ext cx="769608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Fault-block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folded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upwarped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nd volcanic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914400" y="990720"/>
            <a:ext cx="74674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ur typ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mountain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762120" y="838080"/>
            <a:ext cx="739116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The principle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that Earth's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lithosphere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floats on th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sthenospher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990720" y="990720"/>
            <a:ext cx="74674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ostasy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89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685800" y="838080"/>
            <a:ext cx="7848720" cy="541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Convection of th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mantle, ridge-push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nd slab-pull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62120" y="914400"/>
            <a:ext cx="761976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ories t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xplain pl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vemen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ctonic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914400" y="990720"/>
            <a:ext cx="746748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sudden rele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potential energ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resulting move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066680" y="990720"/>
            <a:ext cx="723924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uses a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arthquak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0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762120" y="1066680"/>
            <a:ext cx="7772400" cy="495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imary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condary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surfa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38080" y="990720"/>
            <a:ext cx="769644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fferent typ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seismic wave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914400" y="990720"/>
            <a:ext cx="723888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reaks i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cks; normal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verse, 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rike-sli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219320" y="1600200"/>
            <a:ext cx="63244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ult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6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914400" y="990720"/>
            <a:ext cx="75438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cientis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o stu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arthquak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609480" y="1066680"/>
            <a:ext cx="77724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ismologist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685800" y="1143000"/>
            <a:ext cx="784872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ccurs on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cean floor;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werfu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ismic sea wav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38080" y="990720"/>
            <a:ext cx="7543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 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sunami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arthquak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Volcano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2133720" y="2362320"/>
            <a:ext cx="4724280" cy="22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 result of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agma rising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o Earth's surfac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4320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838080" y="990720"/>
            <a:ext cx="7543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 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olcano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7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Rocks and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inerals Part I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Rocks and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inerals Part II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Weathering and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oil Part I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Weathering and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oil Part II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lat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ectonic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Earthquak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nd Volcano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839080" y="6553080"/>
            <a:ext cx="228600" cy="152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676520" y="990720"/>
            <a:ext cx="557208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Solid, inorganic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material found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in natur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Connie Burton</dc:creator>
  <dc:description/>
  <dc:language>en-US</dc:language>
  <cp:lastModifiedBy>Gaston</cp:lastModifiedBy>
  <dcterms:modified xsi:type="dcterms:W3CDTF">2008-01-08T14:57:13Z</dcterms:modified>
  <cp:revision>68</cp:revision>
  <dc:subject>Math</dc:subject>
  <dc:title>5th Gr. Math Jeopardy after Lesson 1.3</dc:title>
</cp:coreProperties>
</file>