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A41-C321-4824-A654-7033A9CD1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1BFA-759B-43A1-A348-593B18ED5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EC01-65B0-4444-97B2-E8BE3529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BA88-3F62-47B9-8068-C3CD3FF41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EB14-1342-4DC2-AF7E-F88D2774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B47A-4D3D-4DB2-B2D2-B97AB249B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3F44-CA79-47D7-9EE0-9D9AD1FB0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473-F445-489F-838A-4B50E5C8A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D3E-253C-4F54-8DAD-51916473F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856D-CE8A-42AC-BA9F-0DD7044F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A91E-7748-45AA-A49A-7763C51A6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3428-40FB-402C-97F9-687B4975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FE7D-FB16-4306-B730-6A2341207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9.xml"/><Relationship Id="rId12" Type="http://schemas.openxmlformats.org/officeDocument/2006/relationships/slide" Target="slide31.xml"/><Relationship Id="rId13" Type="http://schemas.openxmlformats.org/officeDocument/2006/relationships/slide" Target="slide33.xml"/><Relationship Id="rId14" Type="http://schemas.openxmlformats.org/officeDocument/2006/relationships/slide" Target="slide35.xml"/><Relationship Id="rId15" Type="http://schemas.openxmlformats.org/officeDocument/2006/relationships/slide" Target="slide37.xml"/><Relationship Id="rId16" Type="http://schemas.openxmlformats.org/officeDocument/2006/relationships/slide" Target="slide39.xml"/><Relationship Id="rId17" Type="http://schemas.openxmlformats.org/officeDocument/2006/relationships/slide" Target="slide41.xml"/><Relationship Id="rId18" Type="http://schemas.openxmlformats.org/officeDocument/2006/relationships/slide" Target="slide43.xml"/><Relationship Id="rId19" Type="http://schemas.openxmlformats.org/officeDocument/2006/relationships/slide" Target="slide45.xml"/><Relationship Id="rId20" Type="http://schemas.openxmlformats.org/officeDocument/2006/relationships/slide" Target="slide47.xml"/><Relationship Id="rId21" Type="http://schemas.openxmlformats.org/officeDocument/2006/relationships/slide" Target="slide49.xml"/><Relationship Id="rId22" Type="http://schemas.openxmlformats.org/officeDocument/2006/relationships/slide" Target="slide5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6477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d by Renee Baity from Mt Holly Midd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143000"/>
            <a:ext cx="60195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Hardness      Colo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treak           Lus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eavage       Frac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57400" y="1600200"/>
            <a:ext cx="5943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ropert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used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y mineral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76520" y="990720"/>
            <a:ext cx="55720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xtrusiv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trusiv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typ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19320" y="914400"/>
            <a:ext cx="67816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 on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1447920"/>
            <a:ext cx="6248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trus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83808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beneath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1371600"/>
            <a:ext cx="64771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us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838080"/>
            <a:ext cx="6705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ayers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295280"/>
            <a:ext cx="58676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520" y="838080"/>
            <a:ext cx="64008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grains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iny parts of rock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14300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ri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990720"/>
            <a:ext cx="66294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miner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ssolved in wa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vaporate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1295280"/>
            <a:ext cx="6858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990720"/>
            <a:ext cx="7162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ains of liv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 and anim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1066680"/>
            <a:ext cx="6705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ew rock form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existing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 is heat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squeez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1600" y="1371600"/>
            <a:ext cx="6324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morph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83808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s are broke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part by phys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es and simila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o original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19320"/>
            <a:ext cx="71625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ccurs when chem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actions dissolve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change them int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fferent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1143000"/>
            <a:ext cx="7620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838080"/>
            <a:ext cx="67816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chanical weathe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 caused by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freezing insid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cracks of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1143000"/>
            <a:ext cx="74674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dg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8380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ce wedging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, and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imals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4400" y="114300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ce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14400" y="838080"/>
            <a:ext cx="73152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atural aci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xidation 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 aci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1143000"/>
            <a:ext cx="7543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1066680"/>
            <a:ext cx="746748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 mixture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eathered r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ecayed organic matter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fragment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and a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29528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14400" y="1676520"/>
            <a:ext cx="7162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1066680"/>
            <a:ext cx="716256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imate, slop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f the land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rock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plants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im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990720"/>
            <a:ext cx="8229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ve facto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ffect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1066680"/>
            <a:ext cx="746784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oving forest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overgraz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106668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990720"/>
            <a:ext cx="731520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o-till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tour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errac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1143000"/>
            <a:ext cx="76960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w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nt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914400"/>
            <a:ext cx="7696080" cy="537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dropping of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s that occur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water, wind,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glaciers lose the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nergy and can n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onger carry the loa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1752480"/>
            <a:ext cx="80773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posit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rust, mant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uter core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inner co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95280" y="1828800"/>
            <a:ext cx="6705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990720"/>
            <a:ext cx="7543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lay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arth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838080"/>
            <a:ext cx="7238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en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mpres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ubduct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hea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ult-bl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ld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upwarp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volc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1440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ountai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838080"/>
            <a:ext cx="73911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principl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arth'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ithospher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loats on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sthenosphe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stas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838080"/>
            <a:ext cx="7848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vection of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ntle, ridge-push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lab-pu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914400"/>
            <a:ext cx="7619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ories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1440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udden rel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otential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resulting mov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990720"/>
            <a:ext cx="72392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1066680"/>
            <a:ext cx="7772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m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ary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urf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8080" y="990720"/>
            <a:ext cx="76964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seismic wav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99072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k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; normal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,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ike-sli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19320" y="160020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ul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stu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1066680"/>
            <a:ext cx="7772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ologis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s o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ean floo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werfu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ic sea w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sunam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33720" y="2362320"/>
            <a:ext cx="472428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result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gma ris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 Earth's surfa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32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cano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990720"/>
            <a:ext cx="5572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olid, inorg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fou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 na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onnie Burton</dc:creator>
  <dc:description/>
  <dc:language>en-US</dc:language>
  <cp:lastModifiedBy>Gaston</cp:lastModifiedBy>
  <dcterms:modified xsi:type="dcterms:W3CDTF">2008-01-08T14:57:13Z</dcterms:modified>
  <cp:revision>68</cp:revision>
  <dc:subject>Math</dc:subject>
  <dc:title>5th Gr. Math Jeopardy after Lesson 1.3</dc:title>
</cp:coreProperties>
</file>