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41F-078B-4ADE-A82D-197D1F72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85FE-749A-41CA-93BE-BC7C757A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1AE-C604-46EA-8AF2-27A9BDEE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EE4-103F-432A-9F37-FE04FC68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7328-11F7-42AF-89CE-CE48F2DE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775-BD0E-4061-A694-66AFA8BB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B197-3AAA-4FFC-9894-3CEA7F2C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A56C-EE60-4653-A4D3-85545017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8DC9-7E9C-48E6-9889-06423182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EFE-3241-4400-B5B9-430E1B19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B6C8-1C5E-4857-AEF4-F11FB68A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7E20-9B33-4CF1-B364-BB91269D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C8E8-D79D-4549-8F2E-A125195B0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" Target="slide23.xml"/><Relationship Id="rId9" Type="http://schemas.openxmlformats.org/officeDocument/2006/relationships/slide" Target="slide25.xml"/><Relationship Id="rId10" Type="http://schemas.openxmlformats.org/officeDocument/2006/relationships/slide" Target="slide27.xml"/><Relationship Id="rId11" Type="http://schemas.openxmlformats.org/officeDocument/2006/relationships/slide" Target="slide29.xml"/><Relationship Id="rId12" Type="http://schemas.openxmlformats.org/officeDocument/2006/relationships/slide" Target="slide31.xml"/><Relationship Id="rId13" Type="http://schemas.openxmlformats.org/officeDocument/2006/relationships/slide" Target="slide33.xml"/><Relationship Id="rId14" Type="http://schemas.openxmlformats.org/officeDocument/2006/relationships/slide" Target="slide35.xml"/><Relationship Id="rId15" Type="http://schemas.openxmlformats.org/officeDocument/2006/relationships/slide" Target="slide37.xml"/><Relationship Id="rId16" Type="http://schemas.openxmlformats.org/officeDocument/2006/relationships/slide" Target="slide39.xml"/><Relationship Id="rId17" Type="http://schemas.openxmlformats.org/officeDocument/2006/relationships/slide" Target="slide41.xml"/><Relationship Id="rId18" Type="http://schemas.openxmlformats.org/officeDocument/2006/relationships/slide" Target="slide43.xml"/><Relationship Id="rId19" Type="http://schemas.openxmlformats.org/officeDocument/2006/relationships/slide" Target="slide45.xml"/><Relationship Id="rId20" Type="http://schemas.openxmlformats.org/officeDocument/2006/relationships/slide" Target="slide47.xml"/><Relationship Id="rId21" Type="http://schemas.openxmlformats.org/officeDocument/2006/relationships/slide" Target="slide49.xml"/><Relationship Id="rId22" Type="http://schemas.openxmlformats.org/officeDocument/2006/relationships/slide" Target="slide51.xml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64771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reated by Renee Baity from Mt Holly Midd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era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76520" y="1143000"/>
            <a:ext cx="60195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Hardness      Colo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treak           Luste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leavage       Fractu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057400" y="1600200"/>
            <a:ext cx="59436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properti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used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entify mineral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676520" y="990720"/>
            <a:ext cx="55720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xtrusive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Intrusiv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wo type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gneous 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219320" y="914400"/>
            <a:ext cx="678168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elted rock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terial cooled on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arth's surfac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523880" y="1447920"/>
            <a:ext cx="62485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trusi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gneous 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66680" y="838080"/>
            <a:ext cx="678204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elted rock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terial cool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beneath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arth's surfac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371600" y="1371600"/>
            <a:ext cx="64771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rus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gneous 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219320" y="838080"/>
            <a:ext cx="67053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layers of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ediment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er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752480" y="1295280"/>
            <a:ext cx="586764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676520" y="838080"/>
            <a:ext cx="64008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ineral grains or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iny parts of rock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752480" y="1143000"/>
            <a:ext cx="6019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trit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295280" y="990720"/>
            <a:ext cx="66294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minera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dissolved in wate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at evaporate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219320" y="1295280"/>
            <a:ext cx="68580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90720" y="990720"/>
            <a:ext cx="716256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th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emains of liv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lants and animal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295280" y="1219320"/>
            <a:ext cx="66294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143000" y="1066680"/>
            <a:ext cx="6705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New rock form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hen existing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ock is heat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r squeez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371600" y="1371600"/>
            <a:ext cx="632448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morph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43000" y="838080"/>
            <a:ext cx="6858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ocks are broken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part by physica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rocesses and simila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o original rock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er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19320"/>
            <a:ext cx="716256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chan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8080" y="838080"/>
            <a:ext cx="74678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ccurs when chemica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eactions dissolve mineral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r change them into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different mineral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8080" y="1143000"/>
            <a:ext cx="76201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143000" y="838080"/>
            <a:ext cx="67816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echanical weather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rocess caused by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ater freezing insid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e cracks of rock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914400" y="1143000"/>
            <a:ext cx="746748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dg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14400" y="838080"/>
            <a:ext cx="72388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Ice wedging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lants, and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imals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14400" y="1143000"/>
            <a:ext cx="74674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ical proces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a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chanical 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14400" y="838080"/>
            <a:ext cx="73152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Natural acid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xidation an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lant aci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8080" y="1143000"/>
            <a:ext cx="75438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 rea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a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 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14400" y="1066680"/>
            <a:ext cx="7467480" cy="52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 mixture of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eathered rock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decayed organic matter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ineral fragments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ater and ai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38080" y="1295280"/>
            <a:ext cx="73915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So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914400" y="1676520"/>
            <a:ext cx="71629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90720" y="1066680"/>
            <a:ext cx="7162560" cy="52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limate, slop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f the land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ypes of rocks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ypes of plants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tim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990720"/>
            <a:ext cx="8229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ve facto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affect so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velop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8080" y="1066680"/>
            <a:ext cx="7467840" cy="52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arming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emoving forest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overgraz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990720" y="1066680"/>
            <a:ext cx="70102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e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 eros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8080" y="990720"/>
            <a:ext cx="7315200" cy="529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No-till farming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ontour farming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terrac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62120" y="1143000"/>
            <a:ext cx="76960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way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contr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 eros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762120" y="914400"/>
            <a:ext cx="7696080" cy="537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e dropping of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ediments that occur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hen water, wind, or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glaciers lose thei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nergy and can no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longer carry the loa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9480" y="1752480"/>
            <a:ext cx="807732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posit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762120" y="838080"/>
            <a:ext cx="769608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rust, mantl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uter core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inner co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295280" y="1828800"/>
            <a:ext cx="67057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So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990720"/>
            <a:ext cx="75438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ur layer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arth'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uct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914400" y="838080"/>
            <a:ext cx="72388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ension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ompression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ubduction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shear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8080" y="990720"/>
            <a:ext cx="7543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ve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62120" y="838080"/>
            <a:ext cx="769608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ault-block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lded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upwarped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volcanic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914400" y="990720"/>
            <a:ext cx="7467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ur typ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mountai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62120" y="838080"/>
            <a:ext cx="739116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e principle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at Earth'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lithosphere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loats on th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sthenosphe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990720" y="990720"/>
            <a:ext cx="7467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ostas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838080"/>
            <a:ext cx="784872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onvection of th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ntle, ridge-push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slab-pul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914400"/>
            <a:ext cx="76197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ories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lain pl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ve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cton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914400" y="990720"/>
            <a:ext cx="74674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udden rele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potential energ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resulting mov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066680" y="990720"/>
            <a:ext cx="723924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es 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quak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762120" y="1066680"/>
            <a:ext cx="77724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mary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condary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surfa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8080" y="990720"/>
            <a:ext cx="76964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fferent typ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seismic wav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914400" y="990720"/>
            <a:ext cx="72388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eaks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s; normal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verse,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ike-sli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219320" y="1600200"/>
            <a:ext cx="63244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ul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914400" y="99072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ientis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stu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quak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09480" y="1066680"/>
            <a:ext cx="77724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ismologis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1143000"/>
            <a:ext cx="78487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ccurs on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cean floor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werfu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ismic sea wa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8080" y="990720"/>
            <a:ext cx="7543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sunami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quak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Volcano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133720" y="2362320"/>
            <a:ext cx="4724280" cy="22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 result of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gma ris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o Earth's surfac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432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8080" y="990720"/>
            <a:ext cx="7543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lcano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7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ocks an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nerals Part 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ocks and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nerals Part I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eathering an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il Part 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eathering an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il Part I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lat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ectonic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arthquak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d Volcano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76520" y="990720"/>
            <a:ext cx="557208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olid, inorganic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terial foun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in natu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Connie Burton</dc:creator>
  <dc:description/>
  <dc:language>en-US</dc:language>
  <cp:lastModifiedBy>Gaston</cp:lastModifiedBy>
  <dcterms:modified xsi:type="dcterms:W3CDTF">2008-01-08T14:57:13Z</dcterms:modified>
  <cp:revision>68</cp:revision>
  <dc:subject>Math</dc:subject>
  <dc:title>5th Gr. Math Jeopardy after Lesson 1.3</dc:title>
</cp:coreProperties>
</file>