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1F84-2DA7-4F68-A4CD-E97A8578A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F713-C809-409B-AC33-FF712662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DD26-09A0-4DCD-837F-1F52533E4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D58EE-284B-4555-8FE5-AA6B9729D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51B1-2E80-490F-80FC-555D9ED76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B219-81E4-45BA-88F9-D4D953A06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B454-78A2-474A-9BEA-37711163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5516-22E9-4F0D-8CE4-DF7B6435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EF9A-002C-4385-BE1D-15869D8F4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1EE-C804-4105-9661-C6773174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45F9-1B46-498A-85D4-F081C80E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1AB5-C7DB-4DD4-B67E-4275353C9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B3D8F-13AC-4E41-AFCB-A611F07CF1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11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7.xml"/><Relationship Id="rId6" Type="http://schemas.openxmlformats.org/officeDocument/2006/relationships/slide" Target="slide19.xml"/><Relationship Id="rId7" Type="http://schemas.openxmlformats.org/officeDocument/2006/relationships/slide" Target="slide21.xml"/><Relationship Id="rId8" Type="http://schemas.openxmlformats.org/officeDocument/2006/relationships/slide" Target="slide23.xml"/><Relationship Id="rId9" Type="http://schemas.openxmlformats.org/officeDocument/2006/relationships/slide" Target="slide25.xml"/><Relationship Id="rId10" Type="http://schemas.openxmlformats.org/officeDocument/2006/relationships/slide" Target="slide27.xml"/><Relationship Id="rId11" Type="http://schemas.openxmlformats.org/officeDocument/2006/relationships/slide" Target="slide29.xml"/><Relationship Id="rId12" Type="http://schemas.openxmlformats.org/officeDocument/2006/relationships/slide" Target="slide31.xml"/><Relationship Id="rId13" Type="http://schemas.openxmlformats.org/officeDocument/2006/relationships/slide" Target="slide33.xml"/><Relationship Id="rId14" Type="http://schemas.openxmlformats.org/officeDocument/2006/relationships/slide" Target="slide35.xml"/><Relationship Id="rId15" Type="http://schemas.openxmlformats.org/officeDocument/2006/relationships/slide" Target="slide37.xml"/><Relationship Id="rId16" Type="http://schemas.openxmlformats.org/officeDocument/2006/relationships/slide" Target="slide39.xml"/><Relationship Id="rId17" Type="http://schemas.openxmlformats.org/officeDocument/2006/relationships/slide" Target="slide41.xml"/><Relationship Id="rId18" Type="http://schemas.openxmlformats.org/officeDocument/2006/relationships/slide" Target="slide43.xml"/><Relationship Id="rId19" Type="http://schemas.openxmlformats.org/officeDocument/2006/relationships/slide" Target="slide45.xml"/><Relationship Id="rId20" Type="http://schemas.openxmlformats.org/officeDocument/2006/relationships/slide" Target="slide47.xml"/><Relationship Id="rId21" Type="http://schemas.openxmlformats.org/officeDocument/2006/relationships/slide" Target="slide49.xml"/><Relationship Id="rId22" Type="http://schemas.openxmlformats.org/officeDocument/2006/relationships/slide" Target="slide51.xml"/><Relationship Id="rId2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0" y="6781680"/>
            <a:ext cx="76320" cy="763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6477120"/>
            <a:ext cx="579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Created by Renee Baity from Mt Holly Midd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69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469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467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14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2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5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a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676520" y="1143000"/>
            <a:ext cx="60195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Hardness      Colo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treak           Lus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eavage       Frac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057400" y="1600200"/>
            <a:ext cx="594360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propertie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used to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dentify mineral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676520" y="990720"/>
            <a:ext cx="55720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xtrusiv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trusiv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523880" y="2057400"/>
            <a:ext cx="5943600" cy="3352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wo typ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9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1219320" y="914400"/>
            <a:ext cx="6781680" cy="47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 on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523880" y="1447920"/>
            <a:ext cx="6248520" cy="41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trusiv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066680" y="838080"/>
            <a:ext cx="678204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lted rock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cool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beneath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arth's surfac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1371600" y="1371600"/>
            <a:ext cx="64771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ntrusi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gneous 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219320" y="838080"/>
            <a:ext cx="670536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ayers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143000" y="1295280"/>
            <a:ext cx="6858000" cy="426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1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67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867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1752480" y="1295280"/>
            <a:ext cx="586764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0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1676520" y="838080"/>
            <a:ext cx="640080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grains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iny parts of rock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52480" y="1143000"/>
            <a:ext cx="60199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trit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990720"/>
            <a:ext cx="662940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miner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ssolved in wate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vaporate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219320" y="1295280"/>
            <a:ext cx="685800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990720" y="990720"/>
            <a:ext cx="7162560" cy="487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rms from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ains of liv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 and anim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1219320"/>
            <a:ext cx="662940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rgan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dimentar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1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143000" y="106668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ew rock form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existing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 is heat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squeeze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1371600" y="1371600"/>
            <a:ext cx="6324480" cy="441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tamorphic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0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143000" y="838080"/>
            <a:ext cx="68580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ocks are broken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part by phys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es and simila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o original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990720"/>
            <a:ext cx="7086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ineral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990720" y="1219320"/>
            <a:ext cx="716256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3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8080" y="838080"/>
            <a:ext cx="746784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ccurs when chemica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actions dissolve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r change them int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ifferent mineral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8080" y="1143000"/>
            <a:ext cx="762012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6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143000" y="838080"/>
            <a:ext cx="678168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echanical weathe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rocess caused by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freezing insid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cracks of rock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914400" y="1143000"/>
            <a:ext cx="7467480" cy="464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dg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29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400" y="838080"/>
            <a:ext cx="7238880" cy="518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ce wedging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s, and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imals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914400" y="1143000"/>
            <a:ext cx="746748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hysical process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echan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2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914400" y="838080"/>
            <a:ext cx="7315200" cy="533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atural aci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xidation a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plant aci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8080" y="1143000"/>
            <a:ext cx="7543800" cy="449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rea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cau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hemical weathering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5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914400" y="1066680"/>
            <a:ext cx="746748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 mixture of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eathered r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decayed organic matter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ineral fragment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ater and a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838080" y="1295280"/>
            <a:ext cx="73915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14400" y="1676520"/>
            <a:ext cx="716292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38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1066680"/>
            <a:ext cx="716256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limate, slop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f the land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rocks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ypes of plants,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im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380880" y="990720"/>
            <a:ext cx="822960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ive factor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at affect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velop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1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8080" y="1066680"/>
            <a:ext cx="7467840" cy="522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removing forest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overgraz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1066680"/>
            <a:ext cx="701028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4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8080" y="990720"/>
            <a:ext cx="7315200" cy="529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No-till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tour farming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terrac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762120" y="1143000"/>
            <a:ext cx="76960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way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o contro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oil eros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4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762120" y="914400"/>
            <a:ext cx="7696080" cy="537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dropping of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ediments that occur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when water, wind, or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glaciers lose their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energy and can no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onger carry the loa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09480" y="1752480"/>
            <a:ext cx="8077320" cy="358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eposition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rust, mantl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outer core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inner co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295280" y="1828800"/>
            <a:ext cx="67057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eathering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oil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art II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8080" y="990720"/>
            <a:ext cx="75438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layers of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Earth'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uctur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914400" y="838080"/>
            <a:ext cx="72388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en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mpress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ubduction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hearing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ypes of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762120" y="838080"/>
            <a:ext cx="7696080" cy="548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ault-block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old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upwarped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volc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91440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our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mountain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62120" y="838080"/>
            <a:ext cx="739116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e principl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that Earth's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lithosphere 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floats on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sthenosphe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990720" y="990720"/>
            <a:ext cx="746748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is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ostasy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057400" y="1905120"/>
            <a:ext cx="525780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aily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850000"/>
                    </a:gs>
                    <a:gs pos="100000">
                      <a:srgbClr val="ff00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Double!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850000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380880" y="63244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689" fill="hold"/>
                                        <p:tgtEl>
                                          <p:spTgt spid="1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685800" y="838080"/>
            <a:ext cx="7848720" cy="541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Convection of th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ntle, ridge-push,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and slab-pull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62120" y="914400"/>
            <a:ext cx="7619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ories to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xplain 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movement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67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914400" y="1828800"/>
            <a:ext cx="739152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914400" y="990720"/>
            <a:ext cx="74674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he sudden releas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potential energ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resulting movement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1066680" y="990720"/>
            <a:ext cx="723924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causes an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762120" y="1066680"/>
            <a:ext cx="7772400" cy="4953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rimary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condary,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surfac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8080" y="990720"/>
            <a:ext cx="769644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different typ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f seismic wave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914400" y="990720"/>
            <a:ext cx="7238880" cy="518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breaks in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ocks; normal,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reverse, and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trike-slip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1219320" y="1600200"/>
            <a:ext cx="632448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ar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faul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6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914400" y="990720"/>
            <a:ext cx="754380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cientist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o stu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609480" y="1066680"/>
            <a:ext cx="7772400" cy="4343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re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ologists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79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1143000"/>
            <a:ext cx="7848720" cy="5105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curs on th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ocean floor;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powerful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seismic sea wave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tsunami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2" name="">
            <a:hlinkClick r:id="rId2" action="ppaction://hlinksldjump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1752480" y="1828800"/>
            <a:ext cx="525780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133720" y="2362320"/>
            <a:ext cx="4724280" cy="22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Final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Jeopardy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1371600" y="1219320"/>
            <a:ext cx="6781680" cy="46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 result of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agma rising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o Earth's surfac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80880" y="6400800"/>
            <a:ext cx="76320" cy="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4320" fill="hold"/>
                                        <p:tgtEl>
                                          <p:spTgt spid="1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8080" y="990720"/>
            <a:ext cx="754380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What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is 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volcano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87" name="">
            <a:hlinkClick r:id="rId2"/>
          </p:cNvPr>
          <p:cNvSpPr/>
          <p:nvPr/>
        </p:nvSpPr>
        <p:spPr>
          <a:xfrm>
            <a:off x="685800" y="5486400"/>
            <a:ext cx="1219320" cy="838080"/>
          </a:xfrm>
          <a:custGeom>
            <a:avLst/>
            <a:gdLst>
              <a:gd name="textAreaLeft" fmla="*/ 54000 w 1219320"/>
              <a:gd name="textAreaRight" fmla="*/ 1165320 w 121932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31422" h="21600">
                <a:moveTo>
                  <a:pt x="0" y="0"/>
                </a:moveTo>
                <a:lnTo>
                  <a:pt x="31422" y="0"/>
                </a:lnTo>
                <a:lnTo>
                  <a:pt x="31422" y="21600"/>
                </a:lnTo>
                <a:lnTo>
                  <a:pt x="0" y="21600"/>
                </a:lnTo>
                <a:close/>
              </a:path>
              <a:path fill="lightenLess" w="31422" h="21600">
                <a:moveTo>
                  <a:pt x="0" y="0"/>
                </a:moveTo>
                <a:lnTo>
                  <a:pt x="31422" y="0"/>
                </a:lnTo>
                <a:lnTo>
                  <a:pt x="30022" y="1400"/>
                </a:lnTo>
                <a:lnTo>
                  <a:pt x="1400" y="1400"/>
                </a:lnTo>
                <a:close/>
              </a:path>
              <a:path fill="darken" w="31422" h="21600">
                <a:moveTo>
                  <a:pt x="31422" y="0"/>
                </a:moveTo>
                <a:lnTo>
                  <a:pt x="31422" y="21600"/>
                </a:lnTo>
                <a:lnTo>
                  <a:pt x="30022" y="20200"/>
                </a:lnTo>
                <a:lnTo>
                  <a:pt x="30022" y="1400"/>
                </a:lnTo>
                <a:close/>
              </a:path>
              <a:path fill="darkenLess" w="31422" h="21600">
                <a:moveTo>
                  <a:pt x="314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022" y="20200"/>
                </a:lnTo>
                <a:close/>
              </a:path>
              <a:path fill="lighten" w="314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304920"/>
            <a:ext cx="1143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24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Rocks and 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Minerals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276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72428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Weathering and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Soil Part II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2485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Plate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Tectonic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848720" y="304920"/>
            <a:ext cx="1143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Earthquak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Times New Roman"/>
              </a:rPr>
              <a:t>and Volcanoes</a:t>
            </a:r>
            <a:endParaRPr b="1" lang="en-US" sz="2400" spc="1" strike="noStrike">
              <a:ln w="0">
                <a:noFill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2720" y="1295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272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2720" y="3581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2720" y="4724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2720" y="5867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866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69596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8660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6866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866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10480" y="1279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10480" y="243828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01120" y="356544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3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1048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4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1048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5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7250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6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7250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7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73472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8" action="ppaction://hlinksldjump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73472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19" action="ppaction://hlinksldjump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73472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0" action="ppaction://hlinksldjump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26796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1" action="ppaction://hlinksldjump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2586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00"/>
                </a:solidFill>
                <a:uFillTx/>
                <a:latin typeface="Times New Roman"/>
                <a:hlinkClick r:id="rId22" action="ppaction://hlinksldjump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26796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6796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26796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792200" y="1292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792200" y="2435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782480" y="3578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792200" y="4721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792200" y="5864400"/>
            <a:ext cx="119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839080" y="6553080"/>
            <a:ext cx="228600" cy="152640"/>
          </a:xfrm>
          <a:prstGeom prst="star5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676520" y="990720"/>
            <a:ext cx="557208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Solid, inorganic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material found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MS Mincho"/>
              </a:rPr>
              <a:t>in natur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MS Mincho"/>
              <a:ea typeface="MS Minch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7T17:16:48Z</dcterms:created>
  <dc:creator>Connie Burton</dc:creator>
  <dc:description/>
  <dc:language>en-US</dc:language>
  <cp:lastModifiedBy>Gaston</cp:lastModifiedBy>
  <dcterms:modified xsi:type="dcterms:W3CDTF">2008-01-08T14:57:13Z</dcterms:modified>
  <cp:revision>68</cp:revision>
  <dc:subject>Math</dc:subject>
  <dc:title>5th Gr. Math Jeopardy after Lesson 1.3</dc:title>
</cp:coreProperties>
</file>